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gif" ContentType="image/gif"/>
  <Override PartName="/ppt/media/image27.gif" ContentType="image/gif"/>
  <Override PartName="/ppt/media/image26.gif" ContentType="image/gif"/>
  <Override PartName="/ppt/media/image13.gif" ContentType="image/gif"/>
  <Override PartName="/ppt/media/image23.gif" ContentType="image/gif"/>
  <Override PartName="/ppt/media/image29.gif" ContentType="image/gif"/>
  <Override PartName="/ppt/media/image6.gif" ContentType="image/gif"/>
  <Override PartName="/ppt/media/image7.jpeg" ContentType="image/jpeg"/>
  <Override PartName="/ppt/media/image9.gif" ContentType="image/gif"/>
  <Override PartName="/ppt/media/image10.gif" ContentType="image/gif"/>
  <Override PartName="/ppt/media/image11.wmf" ContentType="image/x-wmf"/>
  <Override PartName="/ppt/media/image15.gif" ContentType="image/gif"/>
  <Override PartName="/ppt/media/image5.jpeg" ContentType="image/jpeg"/>
  <Override PartName="/ppt/media/image3.jpeg" ContentType="image/jpeg"/>
  <Override PartName="/ppt/media/image12.gif" ContentType="image/gif"/>
  <Override PartName="/ppt/media/image30.gif" ContentType="image/gif"/>
  <Override PartName="/ppt/media/image8.gif" ContentType="image/gif"/>
  <Override PartName="/ppt/media/image4.jpeg" ContentType="image/jpeg"/>
  <Override PartName="/ppt/media/image2.png" ContentType="image/png"/>
  <Override PartName="/ppt/media/image22.gif" ContentType="image/gif"/>
  <Override PartName="/ppt/media/image1.png" ContentType="image/png"/>
  <Override PartName="/ppt/media/image19.gif" ContentType="image/gif"/>
  <Override PartName="/ppt/media/image21.gif" ContentType="image/gif"/>
  <Override PartName="/ppt/media/image31.jpeg" ContentType="image/jpeg"/>
  <Override PartName="/ppt/media/image14.gif" ContentType="image/gif"/>
  <Override PartName="/ppt/media/image16.gif" ContentType="image/gif"/>
  <Override PartName="/ppt/media/image17.gif" ContentType="image/gif"/>
  <Override PartName="/ppt/media/image18.gif" ContentType="image/gif"/>
  <Override PartName="/ppt/media/image20.gif" ContentType="image/gif"/>
  <Override PartName="/ppt/media/image32.jpeg" ContentType="image/jpeg"/>
  <Override PartName="/ppt/media/image24.gif" ContentType="image/gif"/>
  <Override PartName="/ppt/media/image25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BEA6-B928-43AA-A48F-D69931B34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237F-67F7-4502-ABA4-B177BD098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1EBB-566D-40A7-B226-ED9224D4B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76C7-EAB8-4A8F-A7DB-BC1C2D724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EFC9-8057-4202-A7AA-2CCDAA9FE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13AA-0BA1-41D4-9F22-1E911D608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F750-E412-402A-8BE9-8E1082547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2B84-2368-43A2-862B-8F6E18E00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9FCC-40D8-442C-9DD9-06AF0600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222F-30EC-4132-990F-722547D4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E11B-8C14-4459-956A-BE998D35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1FEA-2097-41DF-B7B4-B97046C2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0CF93-331B-49EC-A8B1-8B706CC78D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image" Target="../media/image20.gif"/><Relationship Id="rId5" Type="http://schemas.openxmlformats.org/officeDocument/2006/relationships/image" Target="../media/image21.gif"/><Relationship Id="rId6" Type="http://schemas.openxmlformats.org/officeDocument/2006/relationships/image" Target="../media/image22.gif"/><Relationship Id="rId7" Type="http://schemas.openxmlformats.org/officeDocument/2006/relationships/image" Target="../media/image23.gif"/><Relationship Id="rId8" Type="http://schemas.openxmlformats.org/officeDocument/2006/relationships/image" Target="../media/image24.gif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gif"/><Relationship Id="rId3" Type="http://schemas.openxmlformats.org/officeDocument/2006/relationships/image" Target="../media/image27.gif"/><Relationship Id="rId4" Type="http://schemas.openxmlformats.org/officeDocument/2006/relationships/image" Target="../media/image28.gif"/><Relationship Id="rId5" Type="http://schemas.openxmlformats.org/officeDocument/2006/relationships/image" Target="../media/image29.gif"/><Relationship Id="rId6" Type="http://schemas.openxmlformats.org/officeDocument/2006/relationships/image" Target="../media/image30.gif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hp?hl=en" TargetMode="External"/><Relationship Id="rId2" Type="http://schemas.openxmlformats.org/officeDocument/2006/relationships/hyperlink" Target="http://www.holyspiritinteractive.net/kids/questions/die.gif" TargetMode="External"/><Relationship Id="rId3" Type="http://schemas.openxmlformats.org/officeDocument/2006/relationships/hyperlink" Target="http://www.holyspiritinteractive.net/kids/questions/die.gif" TargetMode="External"/><Relationship Id="rId4" Type="http://schemas.openxmlformats.org/officeDocument/2006/relationships/image" Target="../media/image31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 the beginning God created the heaven and the earth. But the earth had no shape. It was empty, covered with only darkness and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n the fifth day God made the whales and 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42920" y="4221000"/>
            <a:ext cx="2016360" cy="15019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724360" y="1773360"/>
            <a:ext cx="1872000" cy="14554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258920" y="2205000"/>
            <a:ext cx="2303280" cy="14889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5796000" y="400536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d the bi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826920" y="2060640"/>
            <a:ext cx="1352880" cy="13428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164360" y="1989000"/>
            <a:ext cx="1295280" cy="10922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643280" y="1844640"/>
            <a:ext cx="1873440" cy="1162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900000" y="4221000"/>
            <a:ext cx="1119240" cy="1440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6877080" y="3789360"/>
            <a:ext cx="1440000" cy="1270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2843280" y="2276640"/>
            <a:ext cx="1272960" cy="1296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2987640" y="4581360"/>
            <a:ext cx="1049400" cy="1152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8"/>
          <a:stretch/>
        </p:blipFill>
        <p:spPr>
          <a:xfrm>
            <a:off x="4932360" y="4076640"/>
            <a:ext cx="1584360" cy="10954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9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n the sixth day God made all of the animals and insects. God saw that it was g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26920" y="2349360"/>
            <a:ext cx="1295640" cy="10303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300720" y="1989000"/>
            <a:ext cx="1440000" cy="10494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84360" y="4149720"/>
            <a:ext cx="1439640" cy="12128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7524720" y="4221000"/>
            <a:ext cx="584280" cy="1079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4067280" y="4581360"/>
            <a:ext cx="1360440" cy="763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6"/>
          <a:stretch/>
        </p:blipFill>
        <p:spPr>
          <a:xfrm>
            <a:off x="3564000" y="2421000"/>
            <a:ext cx="1377720" cy="11095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7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n the sixth day God also created Adam and E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0" y="0"/>
          <a:ext cx="2654280" cy="1144440"/>
        </p:xfrm>
        <a:graphic>
          <a:graphicData uri="http://schemas.openxmlformats.org/drawingml/2006/table">
            <a:tbl>
              <a:tblPr/>
              <a:tblGrid>
                <a:gridCol w="1708200"/>
                <a:gridCol w="946080"/>
              </a:tblGrid>
              <a:tr h="1145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/>
                        </a:rPr>
                        <a:t>  </a:t>
                      </a: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/>
                        </a:rPr>
                        <a:t>  </a:t>
                      </a:r>
                      <a:r>
                        <a:rPr b="0" lang="en-US" sz="5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48000" y="2349360"/>
            <a:ext cx="2138400" cy="2519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n the last day, the seventh day, God rested and saw that all He had created was g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river"/>
          <p:cNvPicPr/>
          <p:nvPr/>
        </p:nvPicPr>
        <p:blipFill>
          <a:blip r:embed="rId1"/>
          <a:stretch/>
        </p:blipFill>
        <p:spPr>
          <a:xfrm>
            <a:off x="1547640" y="1773360"/>
            <a:ext cx="5616720" cy="4213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n the Spirit of God hovered over the water and God said, ‘Let there be light.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59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4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322360" y="800280"/>
            <a:ext cx="190800" cy="9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27640" y="1484280"/>
            <a:ext cx="4249800" cy="3398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n God divided the light from the darkness and He called the light the daytime and the darkness He called night time. This was the first 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32000" y="1701720"/>
            <a:ext cx="6624720" cy="4416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od divided the waters below from the waters above to make the sky and the sea. This was the second 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71640" y="1347840"/>
            <a:ext cx="7416720" cy="4740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fter this God said, "Let the water under the heaven be gathered together in one plac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187280" y="1698480"/>
            <a:ext cx="7056720" cy="39625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d let the dry land appear," and it happened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11280" y="2565360"/>
            <a:ext cx="7920000" cy="3594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 the third day God said, "Let the earth produce grass, and plants, and fruit trees," and it happened; And God saw that it was goo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132000" y="2565360"/>
            <a:ext cx="2232000" cy="20908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2133720"/>
            <a:ext cx="1943280" cy="2158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156360" y="2421000"/>
            <a:ext cx="2519280" cy="3095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 the fourth day God made two great lights; the sun to rule by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71640" y="1700280"/>
            <a:ext cx="3313080" cy="4319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 the moon to rule by night. He also made the st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00360" y="1700280"/>
            <a:ext cx="3970440" cy="4176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9T18:50:03Z</dcterms:created>
  <dc:creator>Lynn Medland</dc:creator>
  <dc:description/>
  <dc:language>en-US</dc:language>
  <cp:lastModifiedBy>Mike Freedman</cp:lastModifiedBy>
  <dcterms:modified xsi:type="dcterms:W3CDTF">2006-06-18T13:07:03Z</dcterms:modified>
  <cp:revision>9</cp:revision>
  <dc:subject/>
  <dc:title>In the beginning God created the heaven and the earth.</dc:title>
</cp:coreProperties>
</file>