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27D-492D-45DF-A59C-263C6EC6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7A5-5B7C-44AA-BBEA-3E5CAEB9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A5A-5EFF-43C2-8BE4-52A38A0B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CE3-CF09-42A9-A81F-EE6C9858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762-283C-4DB0-B450-0C9C00A1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4FF-2662-439F-800A-AF001B1E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CCE-E55B-4E4F-84D5-39F29A33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D10-B352-47B9-85D5-9628FCA1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D72-B7FE-49FE-8266-F2B998A2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478-851A-41D9-84E7-65982A2E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81B-FA47-44D7-9B68-0B13B011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766-53E3-4729-816B-AF2A52C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7BBB-E039-48DC-B509-D4B3CC9B6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by 10 and then adding and subtrac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2 digit number, such as 20, and then adding or subtracting to reach the number. Example: 30 divided by 3 is 10, take away 4.6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13:32Z</dcterms:modified>
  <cp:revision>3</cp:revision>
  <dc:subject/>
  <dc:title>PowerPoint Presentation</dc:title>
</cp:coreProperties>
</file>