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CD3-F858-4A9A-85C0-69FBC65D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9F5-B7F9-471E-9423-7C5EAB1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5E0-DE1F-4D83-8587-D433799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D81-A57C-4BDC-BE4A-44DD769F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CC9-F3FA-4C3E-87D1-595E98E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812-39E5-47A1-A8EF-0FA48A4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016-1F8B-4D49-8A5E-0F924F7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702-C0ED-445B-AE4E-AA670B0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3AD-FF49-4081-B62B-D3B1949E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FB8-5004-4115-8CA1-7D0D1EA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07E9-FCFC-432F-83C7-B9D7F7AC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A1A-49F2-40D7-B291-9ADBCF3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03F5-499E-41A3-8A50-D18F65005D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Addition of negativ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5468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e a number line to help you find the answers to these additions, then lift the top card to check your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+ -5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9 + -3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 + 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 + 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+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 +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 +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6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13 +7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5:00:41Z</dcterms:modified>
  <cp:revision>7</cp:revision>
  <dc:subject/>
  <dc:title>PowerPoint Presentation</dc:title>
</cp:coreProperties>
</file>