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0C7-A47F-4C0C-BBEF-CA712009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999D-ECDE-4EAD-AA2C-1D305547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7989-BBCD-4FE0-8797-06C21225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54F8-F86C-4DE9-979F-D84E7D71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C0C7-49D8-466B-A3CF-DD1D8CC9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5BE-D8F8-41B2-B10C-B7A5C3E1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EEA-62D5-41FB-B8FB-B032B57F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2FB-D47A-41EA-BC86-FFC47FB1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1E9-A144-427B-B30C-C1D77F4F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F47-ABE9-434B-B8E4-58F1E539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A6E-9166-403E-AD2C-31FFDBFF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AEE1-AF37-47BD-ABC7-2ADE138E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F14B-310B-4625-85B6-D790C28C8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Me by Multiplying and then adding and subtra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2514600"/>
          <a:ext cx="6095880" cy="3819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8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a way of making each target number by dividing a two digit number by a one digit number and then adding or subtracting  to reach the number. Example: 40 divided by 5 is 8, plus 5 equal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8T14:51:24Z</dcterms:modified>
  <cp:revision>6</cp:revision>
  <dc:subject/>
  <dc:title>PowerPoint Presentation</dc:title>
</cp:coreProperties>
</file>