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DD6E-5D29-4A33-8EA6-7EB52BD2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A7C9-762C-4943-9AE0-98E5139E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9F70-EB2F-4D66-A780-1E10E971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A927-D487-4F99-BBCF-48B28F91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F6C0-D17F-451D-AF67-62981006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488A-81A3-4E4D-9684-1FE19834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60B-11C7-4F60-9593-CAFF74B9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9BF8-C8DE-4C1C-8A9D-BE1309AB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F0D8-C901-40AE-9B93-6AC4EC7B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7BF9-44B4-4D1C-A6AD-B9C7CFA8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D530-4AC8-4134-8DB5-055B455E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FF8C-C3BB-4A9E-96A2-96CB6837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E682-8D61-46D7-B74D-56392869E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60280"/>
            <a:ext cx="7993080" cy="5814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ercentage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341360"/>
            <a:ext cx="1944720" cy="6426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0% of  240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4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0%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80 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08 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249228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0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134136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5% 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0 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25%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12 p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8 p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15%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0 ap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2 ap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3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35%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20 p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443700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2 pe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157720"/>
            <a:ext cx="1944720" cy="7855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nd 75%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2 p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4 p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6 chic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5213520"/>
            <a:ext cx="2158920" cy="94644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d out the new price of a dress costing £80 that has been reduced by 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5157720"/>
            <a:ext cx="2737080" cy="73332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d out the new price of a dress costing £1200 that has been reduced by 4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6237360"/>
            <a:ext cx="1944720" cy="3682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£6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21:23:13Z</dcterms:created>
  <dc:creator>Teacher</dc:creator>
  <dc:description/>
  <dc:language>en-US</dc:language>
  <cp:lastModifiedBy>Teacher</cp:lastModifiedBy>
  <dcterms:modified xsi:type="dcterms:W3CDTF">2003-04-01T07:19:13Z</dcterms:modified>
  <cp:revision>4</cp:revision>
  <dc:subject/>
  <dc:title>Slide 1</dc:title>
</cp:coreProperties>
</file>