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9F1-2B5E-425C-8FF0-F553F194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7C7-B1B4-4EC3-B472-5F74C9FE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F85-F349-4162-8882-F34DA94B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E4C-0798-47AC-A385-18E63558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0FF-8886-482C-8B9A-326B00EC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D9A-7DE3-4C33-A4F3-632699E1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D0B-C4F5-47DD-9097-5D694ACA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30C4-E6C0-42DE-871B-185A7ED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171-B49A-4DD2-9C27-44F12845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ADD-3B1E-45DA-9CD4-5777C1C5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3BE-FEF7-4497-BFF0-AF2B70D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4A1-BDB8-443D-99FB-25673873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1441-ED84-4A27-80F2-14FB9FA687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ddition and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066680"/>
          <a:ext cx="7925040" cy="5127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Makes 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Makes 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.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7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0.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must we add to the first and third columns to make 1 or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8T12:24:27Z</dcterms:modified>
  <cp:revision>2</cp:revision>
  <dc:subject/>
  <dc:title>PowerPoint Presentation</dc:title>
</cp:coreProperties>
</file>