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E0A-B7EC-4D33-82DF-40DA3E22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F65-188E-4994-BF37-27CBFDDF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EBC-E28E-4610-81E5-90D5A34F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EA6-C902-4D6C-B5A1-C4A3E4A8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6A9F-8FDD-4421-B421-FC0FF96E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B85-259C-45C8-AF60-B6C0C969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FF3-8B9F-482B-B764-ABBE8A8D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C6E-6DF5-480D-B0FC-4F95EC3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C42-CBDD-4335-893C-E2C08BB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3CF-61B7-4BFB-9BAD-3B15C2A7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F5C-6B5E-4B36-9576-979F394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303-1F07-4E06-99A2-E58516F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85C1-22DF-4430-BF4B-85B50ECEA5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ivision – Halves, Quarters and Eighths of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5040" cy="491796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What is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GB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GB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 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99ff99"/>
                          </a:solidFill>
                          <a:uFillTx/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2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48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6:08:41Z</dcterms:modified>
  <cp:revision>2</cp:revision>
  <dc:subject/>
  <dc:title>PowerPoint Presentation</dc:title>
</cp:coreProperties>
</file>