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E8E5-2CD7-4527-B8AB-E380D07A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B51D-BC8B-4A15-B15E-19F79868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8030-99C5-4130-A53E-D87B7E9B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042D-5E82-4BA9-B6A1-8CFF5ACD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09E8-49FA-4D45-917E-7C9221A1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98A7-C2B3-48CA-BBF8-54907EA7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D561-08EC-4E87-984D-4BE1A3AD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36D8-809A-48C6-8E16-2BBEE519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FD29-E03B-4F91-88FF-ACB99723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DC27-A6F1-4824-B9FE-0561718B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C4B8-CEBC-4893-972E-617FBC26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A6E2-66B1-4EF8-8F05-A691CC33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3DFE-E146-4899-870A-8F2F181241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0"/>
            <a:ext cx="9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ying by 10 and then adding and subtra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447920" y="2514600"/>
          <a:ext cx="6095880" cy="38192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8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0" y="990720"/>
            <a:ext cx="9144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a way of making each target number by multiplying a number, such as 40, and then adding or subtracting to reach the number. Example: 40 multiplied by 3 is 120, take away 4 equal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1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4:50:12Z</dcterms:created>
  <dc:creator>ok</dc:creator>
  <dc:description/>
  <dc:language>en-US</dc:language>
  <cp:lastModifiedBy>ok</cp:lastModifiedBy>
  <dcterms:modified xsi:type="dcterms:W3CDTF">2003-08-27T15:50:50Z</dcterms:modified>
  <cp:revision>4</cp:revision>
  <dc:subject/>
  <dc:title>PowerPoint Presentation</dc:title>
</cp:coreProperties>
</file>