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AEE-A095-49EF-8BDE-573EA156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447-B923-4746-BDFC-D859AFAF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20CC-895E-4541-A8CE-A3A13D02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63F8-6268-4E0E-A8BD-92B78DD1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CAF-4BC7-4DC3-917C-A5B33C85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83AD-AAC9-4A5C-9589-E6A4C6A0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182-D901-4A8B-8B52-58A94A41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7FC4-33CB-4D2F-9492-EAF93305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E457-5623-4D73-BD84-9FC4AB83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D84C-98BE-4D10-981B-D9570DE1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69D-B6C6-481C-AB88-71F71A96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8098-0F0A-46B0-9742-AB0E0CF6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0EF5-8406-4887-BD96-52C71E6E4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90792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12% 0f 33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16720" y="4941720"/>
            <a:ext cx="180036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75% 0f 204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421000"/>
            <a:ext cx="18000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greater; 30% of 213 or 1/5 of 3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357336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35% of 46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5445000"/>
            <a:ext cx="180036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3/7 of 8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9640" y="836640"/>
            <a:ext cx="1800000" cy="173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8-packs of crips can be made from a total package of 768 cris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72360" y="2492280"/>
            <a:ext cx="1800000" cy="916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greater; 1/3 of 2070 or 20% of 34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933720"/>
            <a:ext cx="1800360" cy="916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50% of of a quarter of 68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2360" y="90792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1/5 of 339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37372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90% of 64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0:57:02Z</dcterms:created>
  <dc:creator>Teacher</dc:creator>
  <dc:description/>
  <dc:language>en-US</dc:language>
  <cp:lastModifiedBy>Teacher</cp:lastModifiedBy>
  <dcterms:modified xsi:type="dcterms:W3CDTF">2003-03-13T22:37:32Z</dcterms:modified>
  <cp:revision>4</cp:revision>
  <dc:subject/>
  <dc:title>Slide 1</dc:title>
</cp:coreProperties>
</file>