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231-2A72-4A76-8079-AF1E6FB6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F38-D9F4-40E2-989B-CAD3D824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C46C-1E16-422C-AF8F-C2C18BD8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20D-40DC-4B87-9CAD-D8270A59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CF2-09DC-4BA7-948A-EE397DB6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567-9CFA-483D-9048-A5383D8A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579-7765-4E36-8837-B8491829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387-B87E-4A6E-AB64-9C3EACF9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1C9-B6EF-4A28-BA68-5971EB5B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23E1-8240-41CB-8099-78B70FB4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5BF-900F-4F4C-AC53-6833ED73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670-4EAD-4AC5-82C3-DF5B1C09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FA9D-AB93-493B-A2C7-59131AC27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0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 = 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9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f =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1052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f =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48360" y="1844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d=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852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c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8360" y="2781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o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716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ec =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io =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4508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b =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½ of ho =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18900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558972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out what number each letter 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22:01:46Z</dcterms:created>
  <dc:creator>Teacher</dc:creator>
  <dc:description/>
  <dc:language>en-US</dc:language>
  <cp:lastModifiedBy>Teacher</cp:lastModifiedBy>
  <dcterms:modified xsi:type="dcterms:W3CDTF">2003-03-03T22:02:21Z</dcterms:modified>
  <cp:revision>2</cp:revision>
  <dc:subject/>
  <dc:title>Slide 1</dc:title>
</cp:coreProperties>
</file>