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8B8-C828-46A9-8BF0-4BC2A77C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0E2-719D-4564-A83D-F19D16F1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31-3747-4401-8EBB-7ECDF2AD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DEC-A305-487D-81ED-9751E43B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E8A-2D2A-49E2-844C-6985AED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99C-CA8A-4DC4-8B8D-F43E7415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184C-BEED-49D7-BC6D-A2810B1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9EC-2FA9-4A7B-9569-8E8068BB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ECD-B1CC-4DD6-BE74-0ABFF890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80B-0211-461C-8FE8-AD27BA4B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1A9-2232-4BC9-9216-93DA4A99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F54-06FE-4CD6-B02B-BD092E3A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669A-3526-4CAD-B2E5-0170CF1D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6-24T15:32:14Z</dcterms:modified>
  <cp:revision>3</cp:revision>
  <dc:subject/>
  <dc:title>Slide 1</dc:title>
</cp:coreProperties>
</file>