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37C-1EEB-4699-876B-547F49AC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B1A-7E2D-45DD-BF81-033C9620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A0E-05A2-45D0-A7CD-C1697193F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753-F2EB-4794-A38B-25F25773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E3B-F154-4EBD-B758-91D5379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BAEB-5F59-4288-ADC9-B828E0BE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363-CD1D-476F-B0DE-61F697DB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4FB-07F2-44B7-A11A-F29F8A0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5D0-1846-4A46-98CE-901EF3E9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FE1-BFF6-45D9-924B-190256D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F08-78D2-485D-96C2-4EB02484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A556-9316-4F58-99B7-8A4A465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D6BA-2F1C-4C06-9017-B4D52CC04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c.a = 6.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c + d.d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b + o.e =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d  + o.c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e + a.c = d.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.i + e.f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.g + o.a =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8T14:35:37Z</dcterms:modified>
  <cp:revision>4</cp:revision>
  <dc:subject/>
  <dc:title>PowerPoint Presentation</dc:title>
</cp:coreProperties>
</file>