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79C4-A303-4805-8B1D-4052D1B5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3C0-E7A6-48C3-B34A-C5ED646D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F11-2FC9-410E-88CF-7A3E37E7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322-D8F4-41DE-BAA9-0C53682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2DC-5226-4879-9BE0-1840D829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A0C-CF0B-4D54-9234-7E17AD7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A02-0934-49CC-A7AB-C49AF938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43F-81C2-4F09-9AE4-4FAE93E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770-F741-4189-A420-581F65E9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E76-2E73-484E-84FE-F3C4D8D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BAB-EDBB-450D-9EF9-F4D151D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387-EF95-4BD9-A1CF-2E118E8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1C5C-001E-42A8-9178-3072BA3E3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848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Wrong -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860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9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32004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8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11480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2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95288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9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4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1523880"/>
            <a:ext cx="2438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6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6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6400" y="236232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5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7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32004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6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411480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4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8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4876920"/>
            <a:ext cx="236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7 </a:t>
            </a:r>
            <a:r>
              <a:rPr b="0" lang="en-US" sz="3600" spc="-1" strike="noStrike">
                <a:solidFill>
                  <a:srgbClr val="808080"/>
                </a:solidFill>
                <a:latin typeface="Math B"/>
                <a:ea typeface="Math B"/>
              </a:rPr>
              <a:t>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3 =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Find the correct answers for these divisions, showing how you found the answer for each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7T19:46:40Z</dcterms:modified>
  <cp:revision>1</cp:revision>
  <dc:subject/>
  <dc:title>PowerPoint Presentation</dc:title>
</cp:coreProperties>
</file>