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E78F-59DD-4650-AC00-3113FBE49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8CB5-9B15-4FE9-AAB0-D18809BF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19F9-DD44-419C-B503-4CDB3F25C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BFEB-18AB-4253-A1F7-1788FDFFB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E70D-67A3-4AB4-9EA8-9BC463BD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7EAB-57DF-4541-A87D-7FEC4124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3C38-5907-450E-B4AC-52309C87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DA7B-EECD-4F5E-8D21-9BA16FBC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6FDD-46E8-43C8-BEFC-C03C8977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B697-0620-499D-BCB2-5399A31E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4308-638D-42B6-94BB-880D7E72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D6BA-B78C-47D4-800D-7EDAB458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FE6E-1A0D-4030-8D10-03D1F30F9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2160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 curtain factory orders 2.5km of ribbon. They get a discount of 10% for a bulk order. How much do they pay for the or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141720"/>
            <a:ext cx="6400800" cy="1752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£110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£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£1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£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5373720"/>
            <a:ext cx="6769440" cy="11912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 you make a similar word problem of your own that uses metric lengths or weights and mon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14:35:28Z</dcterms:created>
  <dc:creator>Teacher</dc:creator>
  <dc:description/>
  <dc:language>en-US</dc:language>
  <cp:lastModifiedBy>Teacher</cp:lastModifiedBy>
  <dcterms:modified xsi:type="dcterms:W3CDTF">2003-02-23T14:35:36Z</dcterms:modified>
  <cp:revision>1</cp:revision>
  <dc:subject/>
  <dc:title>A  curtain factory orders 2.5km of ribbon. They get a discount of 10% for a bulk order. How much do they pay for the order?</dc:title>
</cp:coreProperties>
</file>