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E3E-C4DF-44E1-9E99-00D717EB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5B0-F26D-4EED-B2C3-C403373F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B3F-0DBD-4972-ADA7-C4687F8A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3FD-D219-439C-A780-DEECB34E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5F3-73CF-433D-8789-1CDA0656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65E-A0FD-4E62-82DB-F3F54E32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91D-90B5-42F1-B45A-D008CFEB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D3B-8474-4808-9CF9-6DE8870A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451-AD7F-432F-9725-97DF515B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F55-D4A7-4805-8E6E-D69A3A0E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A40-614A-4E35-B8A0-9EA2708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EAB-3D1F-4757-9B3C-43B3905E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1BD6-4CFB-45F4-82FB-9CAF7ECF18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Common Mu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914400" y="5791320"/>
            <a:ext cx="7620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is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common multiple, other than 1, for these two numbers? Lift the green cover to answer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and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and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 and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and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and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and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and 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 and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and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and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7:42:10Z</dcterms:modified>
  <cp:revision>3</cp:revision>
  <dc:subject/>
  <dc:title>PowerPoint Presentation</dc:title>
</cp:coreProperties>
</file>