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346-1FD8-467F-9FA0-D5A371C5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652-305F-43CE-90C7-F93E35C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CF1-D470-40D5-8BE3-C1325AD3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A51-1B51-416C-9CC3-D34362DF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CFCF-98C4-4937-B982-A314BE0D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B616-C311-43F8-B48A-78BCB5C6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189-5AC6-456A-B60C-5714A59B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F6FE-1A0B-40D9-8146-B31E573D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228-D6CB-421E-B794-07EFD296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E97-07FF-43D8-95F0-764BF2F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0AD-C545-4869-B7F6-6B50B06F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647-C67E-4176-BABD-9F3D970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D443-C68C-4AD3-80ED-E484DA028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2920" cy="1470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ime would you arrive in each city if you left Heathrow airport at 9:00 a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68360" y="2205000"/>
          <a:ext cx="8351640" cy="3255840"/>
        </p:xfrm>
        <a:graphic>
          <a:graphicData uri="http://schemas.openxmlformats.org/drawingml/2006/table">
            <a:tbl>
              <a:tblPr/>
              <a:tblGrid>
                <a:gridCol w="1193760"/>
                <a:gridCol w="1192320"/>
                <a:gridCol w="1423800"/>
                <a:gridCol w="961920"/>
                <a:gridCol w="1308240"/>
                <a:gridCol w="1077840"/>
                <a:gridCol w="1193760"/>
              </a:tblGrid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Y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Francis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c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j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.5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ight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h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26:42Z</dcterms:created>
  <dc:creator>Teacher</dc:creator>
  <dc:description/>
  <dc:language>en-US</dc:language>
  <cp:lastModifiedBy>Teacher</cp:lastModifiedBy>
  <dcterms:modified xsi:type="dcterms:W3CDTF">2003-02-23T14:36:43Z</dcterms:modified>
  <cp:revision>2</cp:revision>
  <dc:subject/>
  <dc:title>What time would you arrive in each city if you left Heathrow airport at 9:00 am?</dc:title>
</cp:coreProperties>
</file>