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1DA1-CBE3-49C5-93C8-894097E0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0232-3B61-4E90-8C84-EBAD5201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CF48-3484-4205-8782-6541EA9C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2EF2-B5F9-4622-AFED-33017ADF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2739-897C-4B7F-93B8-C6E324BE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A2B-C3FB-431C-BBBF-CEFBBB9F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2FD2-A6D9-470E-B57A-88AF6489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3E65-4570-413C-AA1F-D1A9BD93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1BFC-6EFD-442A-9CE2-40365734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6357-3B10-4D6F-90D6-2CC46E05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0F13-CD0A-4870-B43E-1705E60C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8241-4169-43A3-9F57-B798F6DE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6804-02FC-4936-8419-024CB6140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28600"/>
            <a:ext cx="8229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rget Numbers – Plac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267080"/>
            <a:ext cx="2209680" cy="22100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4343400"/>
            <a:ext cx="221004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4419720"/>
            <a:ext cx="220968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9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29400" y="4419720"/>
            <a:ext cx="2209680" cy="2209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8080"/>
            <a:ext cx="220968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838080"/>
            <a:ext cx="220968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838080"/>
            <a:ext cx="221004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705720" y="838080"/>
            <a:ext cx="2209680" cy="2057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00400"/>
            <a:ext cx="91440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make any of the circle numbers by multiplying and adding any or all of the triangle numb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8:26:39Z</dcterms:created>
  <dc:creator>ok</dc:creator>
  <dc:description/>
  <dc:language>en-US</dc:language>
  <cp:lastModifiedBy>ok</cp:lastModifiedBy>
  <dcterms:modified xsi:type="dcterms:W3CDTF">2003-08-27T18:27:13Z</dcterms:modified>
  <cp:revision>1</cp:revision>
  <dc:subject/>
  <dc:title>PowerPoint Presentation</dc:title>
</cp:coreProperties>
</file>