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243-B14C-4743-9132-43F3B860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D78-06F2-4798-95F1-76B97D56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CFF-5E18-46B4-98C9-F91A79F3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E82-2C75-4687-BBED-326C135D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974-AE6D-48D7-8258-FA1AAE30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6A4-941C-490B-A33A-DFC12A8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51C-2C47-4708-97B1-00666B4D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7D8-C7E1-4CDB-8D16-839C0CF3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472-081E-43D6-800F-5B9B8079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695-3D93-41A6-A129-033B80B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D696-52E4-4A20-B382-55638CE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C1C-36E9-43A8-89B5-83F23149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5D09-DAB7-4A5D-85FC-1D303CCA6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99172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Wrong – Addition of positive and negativ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6 + 7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orrect answers for these additions, using a number line to help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2 + - 3 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 + 10 =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01 + -25 = 8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28 + 64 = 8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080" y="14479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1 + - 15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23623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8 + -16 = 6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327672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9 + -17 = 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1148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-30 + 16 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8 + -38 =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9:46:19Z</dcterms:created>
  <dc:creator>ok</dc:creator>
  <dc:description/>
  <dc:language>en-US</dc:language>
  <cp:lastModifiedBy>ok</cp:lastModifiedBy>
  <dcterms:modified xsi:type="dcterms:W3CDTF">2003-08-28T15:09:16Z</dcterms:modified>
  <cp:revision>3</cp:revision>
  <dc:subject/>
  <dc:title>PowerPoint Presentation</dc:title>
</cp:coreProperties>
</file>