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ADD-97C2-4135-A629-370FA639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FA6A-FF89-4EA7-A37E-BD56553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ED6-8DDD-49BC-855E-8ECFB91B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6BE8-8E97-4E7D-8704-8F42BE1F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9156-ADDC-4888-8D31-D2A6B9C2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E8B-66AD-42DC-A81D-6DAC4E52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692-FFFD-421B-9867-4F955204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446-BB8B-4220-AC7F-424E18F9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6E0-4E9C-4AA0-81ED-FEC32A74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687-E50C-4204-9703-85EE12E8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994-1E22-4A85-A150-EBD8375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CF8-6994-4777-A0E4-68A0F2A7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DF6-6883-4A81-8E4A-4C84A176F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19640" y="450864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43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32360" y="119700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4508640"/>
            <a:ext cx="57600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720" y="1125360"/>
            <a:ext cx="576360" cy="1477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189000"/>
            <a:ext cx="6048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9:33:46Z</dcterms:created>
  <dc:creator>Teacher</dc:creator>
  <dc:description/>
  <dc:language>en-US</dc:language>
  <cp:lastModifiedBy>Teacher</cp:lastModifiedBy>
  <dcterms:modified xsi:type="dcterms:W3CDTF">2003-03-25T19:35:14Z</dcterms:modified>
  <cp:revision>1</cp:revision>
  <dc:subject/>
  <dc:title>Slide 1</dc:title>
</cp:coreProperties>
</file>