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57BDC-8B31-49FA-8DD1-BAD56C277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B3B16-8BCF-49E0-A681-4FC8CDFA3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972CC-7596-474F-89F2-66733EA18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D7C84-46FF-4C9F-9E51-637EB9CC9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952E2-6251-4858-BFCC-345E393CF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515C1-0F9C-4C42-8260-47EE9774F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5BDEE-EBFD-40F4-A740-8EE482341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A7A76-67F0-451A-955A-65264235C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E821F-CCA2-4945-B181-EECC0BBAA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B7321-12AD-49F1-9932-761CE748A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3FEA6-695F-4C5B-B7AD-CC61EE9D2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68675-2A5A-492B-B454-19064B46F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C963A-A377-40E2-B487-1A51C3C640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09480" y="304920"/>
            <a:ext cx="815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99"/>
                </a:solidFill>
                <a:latin typeface="Times New Roman"/>
              </a:rPr>
              <a:t>Grid Fractions – Fractions and Decim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609480" y="1397160"/>
          <a:ext cx="8076960" cy="4546080"/>
        </p:xfrm>
        <a:graphic>
          <a:graphicData uri="http://schemas.openxmlformats.org/drawingml/2006/table">
            <a:tbl>
              <a:tblPr/>
              <a:tblGrid>
                <a:gridCol w="1615320"/>
                <a:gridCol w="1615680"/>
                <a:gridCol w="1614960"/>
                <a:gridCol w="1615680"/>
                <a:gridCol w="1615320"/>
              </a:tblGrid>
              <a:tr h="2273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 </a:t>
                      </a:r>
                      <a:r>
                        <a:rPr b="0" lang="en-US" sz="3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30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1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r>
                        <a:rPr b="0" lang="en-US" sz="3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8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7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73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16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7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8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7T16:33:10Z</dcterms:created>
  <dc:creator>ok</dc:creator>
  <dc:description/>
  <dc:language>en-US</dc:language>
  <cp:lastModifiedBy>ok</cp:lastModifiedBy>
  <dcterms:modified xsi:type="dcterms:W3CDTF">2003-08-27T16:33:38Z</dcterms:modified>
  <cp:revision>1</cp:revision>
  <dc:subject/>
  <dc:title>PowerPoint Presentation</dc:title>
</cp:coreProperties>
</file>