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DE5-7FD0-4CA9-9200-A6E6DB9B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09D-58FE-4481-B592-02B7519E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F07-A0EB-4A69-8FA2-76A4D884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B89-A566-48B4-BC5E-041B81AF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EC5-C231-4AA7-89C9-D9E664E2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745-4B2A-46BF-8923-6BAE53BB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29C-8AB2-4F35-A103-F678B70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BDE-E698-432C-8C25-43BF9979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9A5-2F37-4AD0-A3F1-3B6947F2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4A95-667D-4A83-BBE0-90060ED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D97-A728-4A16-A516-A548B72E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E96-9E46-4F37-A8AF-987CC6E4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2A6E-DAC9-48DF-8F89-404EC1C27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9040"/>
        </p:xfrm>
        <a:graphic>
          <a:graphicData uri="http://schemas.openxmlformats.org/drawingml/2006/table">
            <a:tbl>
              <a:tblPr/>
              <a:tblGrid>
                <a:gridCol w="1905120"/>
                <a:gridCol w="2095560"/>
                <a:gridCol w="2000160"/>
                <a:gridCol w="2000160"/>
              </a:tblGrid>
              <a:tr h="20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2.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3.8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0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4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0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5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8.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1.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Math B"/>
                          <a:ea typeface="Math B"/>
                        </a:rPr>
                        <a:t>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.3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viding a 2-digit Number by 10 and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5:03:53Z</dcterms:modified>
  <cp:revision>2</cp:revision>
  <dc:subject/>
  <dc:title>PowerPoint Presentation</dc:title>
</cp:coreProperties>
</file>