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873-1B2D-4797-B456-CC07142A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3F4-3F15-4FE2-9633-7268DF66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2F7A-4D29-48DF-9E06-55AAD344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CFF-60F6-4088-A6AC-4D236B53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8F1-34FA-4405-AA51-921A9FE3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045-2424-4266-B696-F816352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4EF-2C42-4EF9-B265-F2EECDB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5BC-320F-402E-A9BD-BB222476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71B-FF2A-47A2-AC7A-C3A7FCED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D2A-4098-4596-AD7C-3AC8936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B36-C8C5-461E-87E6-63642750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A05-B100-45AA-9D89-9E86F474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8C46-EF93-487D-B300-F6286CBB18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4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6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0" lang="en-US" sz="2400" spc="-1" strike="noStrike">
                <a:solidFill>
                  <a:srgbClr val="000000"/>
                </a:solidFill>
                <a:latin typeface="Math B"/>
                <a:ea typeface="Math B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9:53:36Z</dcterms:modified>
  <cp:revision>3</cp:revision>
  <dc:subject/>
  <dc:title>PowerPoint Presentation</dc:title>
</cp:coreProperties>
</file>