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940F-3762-400E-8A24-36E1970A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D864-B6AC-43C3-A898-A5574350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1A3B-AA59-42E7-9F6E-56C74BC8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F6EF-50BF-4D27-9855-41B4CACC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BCE-D09B-4602-9620-6661FC30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69BB-B015-4D1B-BFAD-E59150C4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75E-F853-43DE-AB89-E9C1F269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156A-0AB6-4337-AA38-E1AD4B02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B0FE-B6AE-4126-912E-593C2C18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6ED9-7851-4970-B987-65C825A9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24C-7C23-4845-A824-C7B40F19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0C15-34CC-4D9E-8873-FD20EDE3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5C8A-9DF4-4F74-AB6D-A209A018E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60280"/>
            <a:ext cx="7993080" cy="5814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raction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341360"/>
            <a:ext cx="1944720" cy="6426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¼ of 168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2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/3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7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9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5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/8 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0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4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12 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4 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5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0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2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5/8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6 p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5 p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7/9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2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6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8 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7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12 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5157720"/>
            <a:ext cx="1944720" cy="6426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4/11 of half of 17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21:23:13Z</dcterms:created>
  <dc:creator>Teacher</dc:creator>
  <dc:description/>
  <dc:language>en-US</dc:language>
  <cp:lastModifiedBy>Teacher</cp:lastModifiedBy>
  <dcterms:modified xsi:type="dcterms:W3CDTF">2003-03-27T20:00:19Z</dcterms:modified>
  <cp:revision>3</cp:revision>
  <dc:subject/>
  <dc:title>Slide 1</dc:title>
</cp:coreProperties>
</file>