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CD1-1E3F-4FFA-9C64-F72E5843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84D2-A068-4047-A684-6026E6BE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5AE-EC0E-4502-9538-81AEF579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31C-56D1-4DDD-A882-C2DD20DF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C02-3CF2-4AE1-A352-40D268A7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665-689D-45C5-8C0E-E488EADF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FA6-A2E8-49E4-9827-1E52BF82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C89-4FEF-4ABD-BE74-F20449D9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1FE-ABAA-4EE7-A233-2FF91FDD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3CA-16EE-4A5D-A704-039E01C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ABA-B9F0-4EDF-AD59-9275AA1F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10A-4F68-47F9-B0E1-92E165CD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7E06-2D84-4ACA-A9D3-0D0C145D59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Divisible by 3,9 or 18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,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914400" y="5791320"/>
            <a:ext cx="7620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ich numbers can only be divided by 3; by 3 and 9; or by 3,9 or 18? Lift the green cover to answer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8:11:12Z</dcterms:modified>
  <cp:revision>4</cp:revision>
  <dc:subject/>
  <dc:title>PowerPoint Presentation</dc:title>
</cp:coreProperties>
</file>