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1D95-8AF4-4D9D-8918-61898876E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73C6-28F7-4C13-843B-22524235E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99BD-6DBB-4E36-99BD-712E6065E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C310-065E-4723-BA59-8C643B236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68D6-A2F0-4508-A4AA-CBC007735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F62D-27EB-4EEE-B26F-9BB89AE63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BD9F-DCE7-46B6-A8DB-567265DE1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7110-003F-4307-ACA0-77E89264B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8B92-4B50-461E-BBF6-581CAF141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0FB2-5701-46B8-88C6-3FECB865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DF45-7138-422E-9E7A-2D01120D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5AB1-199E-411B-B787-A5ED8543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E5EEF-BD1E-4455-B942-DF7662662F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cars each use a different amount of petrol. On average a car drives 160 km a week and the petrol it uses costs 80p per lit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220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 A : 30 mp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 B: 28 mp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 C: 25 mp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4292640"/>
            <a:ext cx="7345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: 8km is equal to 5 m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litres is equal to 2 gall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558972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ow much does each car cost to run for one week? How much does it cost for one ye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3T14:06:48Z</dcterms:created>
  <dc:creator>Teacher</dc:creator>
  <dc:description/>
  <dc:language>en-US</dc:language>
  <cp:lastModifiedBy>Teacher</cp:lastModifiedBy>
  <dcterms:modified xsi:type="dcterms:W3CDTF">2003-02-23T14:06:57Z</dcterms:modified>
  <cp:revision>1</cp:revision>
  <dc:subject/>
  <dc:title>Three cars each use a different amount of petrol. On average a car drives 160 km a week and the petrol it uses costs 80p per litre. </dc:title>
</cp:coreProperties>
</file>