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148E-18BD-4A42-A6D4-4F5ABC553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F6C1-D6F0-4344-B2D9-5F7E792B4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CAF6-3757-4474-B3DE-1D2393963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EB9E-2C6A-4D5C-ACF6-8078F1E78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822D-D7F6-49A5-8E38-05B27B4FB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4436-83C5-4ED1-B1A5-F838E11C1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51DE-110A-4566-B5D8-4FA081257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103E-8AA4-41AB-8CA1-2077F58A4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C233-A1B2-4A23-BA14-1BC3E49E0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43B8-D594-40F1-94F6-A2EF5A3D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89A5-1B3C-44F9-8E36-9A97ECA8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E2C3-633F-4A9E-A37F-EA0F6D03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08661-8A7B-4BFE-9FDB-AB604C325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es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es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1116000" y="333360"/>
            <a:ext cx="734364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What number do you need to add to get …..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59280" y="2133720"/>
            <a:ext cx="15127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2852640"/>
            <a:ext cx="15127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3500280"/>
            <a:ext cx="15127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59280" y="4221000"/>
            <a:ext cx="15127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59280" y="4869000"/>
            <a:ext cx="15127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84720" y="2133720"/>
            <a:ext cx="15130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84720" y="2852640"/>
            <a:ext cx="15130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84720" y="3500280"/>
            <a:ext cx="15130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84720" y="4221000"/>
            <a:ext cx="15130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84720" y="4869000"/>
            <a:ext cx="15130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9T20:53:00Z</dcterms:created>
  <dc:creator>Teacher</dc:creator>
  <dc:description/>
  <dc:language>en-US</dc:language>
  <cp:lastModifiedBy>Teacher</cp:lastModifiedBy>
  <dcterms:modified xsi:type="dcterms:W3CDTF">2003-02-09T20:56:23Z</dcterms:modified>
  <cp:revision>2</cp:revision>
  <dc:subject/>
  <dc:title>Slide 1</dc:title>
</cp:coreProperties>
</file>