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F13D-527A-4C7B-9B23-DF53C435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760A-7E14-4671-B625-9FEE198E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938C-7901-47A7-97D4-46ACEEEE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4A9-69D5-44F7-9FAF-21740CBF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4463-186D-4E29-A4DD-1BEF137D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659E-5443-4F47-9140-81BA31BA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C518-38A9-4357-9AE9-83D54E19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0AF1-295E-45B0-9797-87787A73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ACDC-1050-4B36-99D9-F0236EDA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8499-646C-427F-8B23-C3888181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E51E-63D8-43FB-A52E-91CB70D0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3CF6-97B2-42DC-884C-CD7C8681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4846-50D3-4E9B-A203-1CDE83D81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the Box -  Multi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320" cy="454644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6019920"/>
            <a:ext cx="845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must you add to the number on the green box to make 100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7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7T16:45:11Z</dcterms:modified>
  <cp:revision>3</cp:revision>
  <dc:subject/>
  <dc:title>PowerPoint Presentation</dc:title>
</cp:coreProperties>
</file>