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C6B-4AB5-4AC3-95F4-A95EF338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D51-0E90-482D-9C30-BDA5498E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673-A291-425B-BC37-FEF6B2DF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A6A-2F9F-4A5D-BD6E-FA392975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E0C-647D-4A2E-9C8C-A2395061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488-0576-43CD-8E36-7B007B8D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B60-A079-4D02-B702-A04FC740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D88-5F88-41F7-8F81-10D8268E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907-BA49-48DB-9A72-FBCD07F8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9A4-6059-421A-87A2-8942AEC7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E28B-AF51-4306-B41F-68C6C526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AAC-4BCD-4F4F-80A4-7CA3D375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B1EB-5561-4511-BA01-F1E851FAE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98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360" y="98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981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907920"/>
            <a:ext cx="93528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84464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19162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1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1916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844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2781360"/>
            <a:ext cx="93492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781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.08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48000" y="400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860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400536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4941720"/>
            <a:ext cx="93492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941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486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4941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44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189000"/>
            <a:ext cx="734544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Round 2 place decimal numbers to the nearest whol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98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268360" y="18432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3280" y="278136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40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4941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1:08:05Z</dcterms:created>
  <dc:creator>Teacher</dc:creator>
  <dc:description/>
  <dc:language>en-US</dc:language>
  <cp:lastModifiedBy>Teacher</cp:lastModifiedBy>
  <dcterms:modified xsi:type="dcterms:W3CDTF">2003-02-12T09:14:18Z</dcterms:modified>
  <cp:revision>3</cp:revision>
  <dc:subject/>
  <dc:title>Slide 1</dc:title>
</cp:coreProperties>
</file>