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1E5-1600-4A33-86A0-A3C580E0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FC5C-48E0-46A8-B182-4A001734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88D-F019-45D3-9D45-BDF02FF3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CF2B-60AF-44DE-996B-5298382A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883E-F364-44FB-8002-88444930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04B-F16C-4C8A-9D42-B4CC7FCC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07B-49D4-46DB-AE71-CD31A77C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BA0-CBB0-493D-831D-0C14BAD8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3914-FE1B-4C9B-B5D2-BE21E645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C17-3F2D-4760-84A9-53AD121C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311-E5B3-4BB4-A103-F0787995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2BC-9230-4637-A41B-FA8F8924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66C3-3C5C-44CA-821F-91151DF9EC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99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pen the Box -  Factors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066680"/>
          <a:ext cx="7924680" cy="478008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 32, 2, 16, 4, 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 40, 2, 20, 4, 10, 5, 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 18, 2, 9, 3, 6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 100, 2,50, 4, 25, 5, 20, 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8,2,14,4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5,5,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5,5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8,2,34,4,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04920" y="6019920"/>
            <a:ext cx="8686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 are all the factors of the numbers on the ca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6002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352680"/>
            <a:ext cx="16002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352680"/>
            <a:ext cx="160020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3352680"/>
            <a:ext cx="16002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1066680"/>
            <a:ext cx="16002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352680"/>
            <a:ext cx="160020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066680"/>
            <a:ext cx="160020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352680"/>
            <a:ext cx="16002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5:19:38Z</dcterms:created>
  <dc:creator>ok</dc:creator>
  <dc:description/>
  <dc:language>en-US</dc:language>
  <cp:lastModifiedBy>ok</cp:lastModifiedBy>
  <dcterms:modified xsi:type="dcterms:W3CDTF">2003-08-28T14:47:18Z</dcterms:modified>
  <cp:revision>6</cp:revision>
  <dc:subject/>
  <dc:title>PowerPoint Presentation</dc:title>
</cp:coreProperties>
</file>