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8E2B-B045-46E7-A631-D807308F8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0A7-4663-42AF-948A-5C97F64B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E4AF-892A-4EC7-9918-53A27506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CDEE-95C0-4067-9A26-25FE7CB3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C7FD-FBD4-4511-9BC5-B90DEA50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76FC-B770-4AEA-AE78-77123A9B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BC53-D3EE-4F06-9967-1DF91BA0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6EC4-25F8-4CCE-88DE-56D2C9A6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8E6F-72A1-4E13-9A67-1EA832B9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9E79-BE3C-4D1A-927C-E6E29BCC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B1F9-8A83-4001-AC41-18F19F46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1D10-FF72-44B2-AF56-0917A121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7138-0282-4C86-A32F-0513EBD9F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60280"/>
            <a:ext cx="7993080" cy="5814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raction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¼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8 ; 72; 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2;18;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/3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8 ; 72; 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6;24;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;9;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/8 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8 ; 72; 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4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6 ; 56; 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7; 42; 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5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0 ; 70;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4; 42;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5/8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0 ; 64; 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5; 40; 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1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7/9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0 ; 63; 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0; 49; 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0; 24; 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51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/7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10 ; 56; 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51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4/11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9 ; 121; 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6; 44;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21:23:13Z</dcterms:created>
  <dc:creator>Teacher</dc:creator>
  <dc:description/>
  <dc:language>en-US</dc:language>
  <cp:lastModifiedBy>Teacher</cp:lastModifiedBy>
  <dcterms:modified xsi:type="dcterms:W3CDTF">2003-03-27T19:48:20Z</dcterms:modified>
  <cp:revision>2</cp:revision>
  <dc:subject/>
  <dc:title>Slide 1</dc:title>
</cp:coreProperties>
</file>