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D2C7-923C-48A5-A49C-5AD0AB2F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32C1-7E72-4BF6-A347-1863008F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5F75-8A53-4B4A-86FE-AC2EE027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0185-7CAA-453C-B129-85F9D064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74FA-1347-4973-814C-96BA19D5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A6F6-AD87-4FBC-9AA8-594638D6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3B5C-95EC-406C-8758-55761096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318F-2429-4876-B126-08C5BD05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EE45-C7BF-418E-BB82-06AD063B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276B-3C93-4BD2-AEC0-E4C32F6D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B81A-C9A6-42AA-8F86-42935DBD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90AA-2C57-4DF8-83C7-8C66E103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5C1E-8397-4CAA-AE2A-588E05E10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04920"/>
            <a:ext cx="815328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sing Numbers - Sub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2952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264 – 99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81080" y="1371600"/>
            <a:ext cx="381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1371600"/>
            <a:ext cx="381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209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488 – 199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22860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22860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3200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428 – 198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3276720"/>
            <a:ext cx="38124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3276720"/>
            <a:ext cx="38124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4114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693 – 298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4191120"/>
            <a:ext cx="38124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4191120"/>
            <a:ext cx="38124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5029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776 – 397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5105520"/>
            <a:ext cx="38124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5105520"/>
            <a:ext cx="38124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5105520"/>
            <a:ext cx="38124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5867280"/>
            <a:ext cx="84582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you find out what the missing digits are for these subtra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7800" y="1295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362 – 199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162920" y="13716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0120" y="13716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57800" y="2209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344 – 199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62920" y="22860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0120" y="22860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3124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365 – 299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32004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0120" y="32004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4038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724 – 197 =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86600" y="41148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41148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4952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693 – 587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86600" y="50292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43800" y="5029200"/>
            <a:ext cx="3808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7:13:47Z</dcterms:created>
  <dc:creator>ok</dc:creator>
  <dc:description/>
  <dc:language>en-US</dc:language>
  <cp:lastModifiedBy>ok</cp:lastModifiedBy>
  <dcterms:modified xsi:type="dcterms:W3CDTF">2003-08-27T17:14:12Z</dcterms:modified>
  <cp:revision>1</cp:revision>
  <dc:subject/>
  <dc:title>PowerPoint Presentation</dc:title>
</cp:coreProperties>
</file>