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855-809A-41F7-8153-C0ED290E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6C0-AA9A-4FDD-A770-F2829222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C10-48B5-4E09-9D1D-576CAE31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1C8B-1BA5-4D58-99EF-AFEFB41E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04D-E2F8-4FF3-B158-74EBEE29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08F-D336-43AA-82A8-D65AA37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AB8-070A-4089-B494-FE4A85D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6F1-657D-45C5-BDCB-49F3E080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E5A-7135-402C-A937-DF32BEB9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F79-2614-4B72-A7C6-4C3933A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263-18B2-4912-B68F-ED97018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6D4-DE4C-4A6D-9376-9B71DC5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EE7B-0079-4EFB-917E-EFA917C7E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25% 0f 486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516720" y="4941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75% 0f 82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21000"/>
            <a:ext cx="18000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greater; 50% of 213 or 30% of 3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357336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5% 0f 46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44500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3/12 of 8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19640" y="836640"/>
            <a:ext cx="1800000" cy="1465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boxes will be needed to put 768 eggs into packs of 12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492280"/>
            <a:ext cx="1800000" cy="9169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greater; 1/3 of 2070 or 20% of 3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933720"/>
            <a:ext cx="180036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half of 2/3 of 87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907920"/>
            <a:ext cx="1800000" cy="642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1/3 of 213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0:57:02Z</dcterms:created>
  <dc:creator>Teacher</dc:creator>
  <dc:description/>
  <dc:language>en-US</dc:language>
  <cp:lastModifiedBy>Teacher</cp:lastModifiedBy>
  <dcterms:modified xsi:type="dcterms:W3CDTF">2003-03-13T13:19:31Z</dcterms:modified>
  <cp:revision>3</cp:revision>
  <dc:subject/>
  <dc:title>Slide 1</dc:title>
</cp:coreProperties>
</file>