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6DE-3FBA-406C-A114-2C32E7EC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F69-367E-4B73-A479-8F2FE80C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4CB-5D09-4B3F-8D23-4F39493B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807-2A1D-4D60-8FF8-B3BF5613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C924-ED34-409A-80EF-7C720889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1ED-4354-4C6F-95FB-DE49CB30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7A3-CC0C-45E6-8317-7B1B5B70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3D3-68FB-400D-81B8-B2CB6CF7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F31-B0C8-4C8D-AF03-8C5F41A8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EED-4313-4337-AB44-FF4CAA51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E1F4-94A1-4D26-A723-6A233F7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209-CC63-43F9-AF0D-D37F0E04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3C95-EB24-4E41-A137-A4EAB23D32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All Wrong – Addition</a:t>
            </a:r>
            <a:r>
              <a:rPr b="1" i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371600"/>
          <a:ext cx="8229600" cy="391464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+ 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+ 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 + 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+ 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+ 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+ 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+ 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09480" y="5715000"/>
            <a:ext cx="81536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k out and explain what is wrong with each addition to 100 and find the correct answers. What needs to be added to the red numbers to mak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58Z</dcterms:created>
  <dc:creator>ok</dc:creator>
  <dc:description/>
  <dc:language>en-US</dc:language>
  <cp:lastModifiedBy>ok</cp:lastModifiedBy>
  <dcterms:modified xsi:type="dcterms:W3CDTF">2003-08-27T17:01:27Z</dcterms:modified>
  <cp:revision>3</cp:revision>
  <dc:subject/>
  <dc:title>PowerPoint Presentation</dc:title>
</cp:coreProperties>
</file>