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6F64-7B92-4637-A4ED-51385A244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4946-17B2-438C-97BE-530F27E8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D0D8-1CF4-45D1-9BDA-A15795ADC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6DB5-D09C-4748-9FE0-33024C337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DE25-FDF5-487A-A2FB-BAED444C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2F05-877B-428D-8A70-C7D2B7D6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66E1-0755-45D8-83EC-B3274618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0EFB-CA38-4611-86A5-7F9D3EBB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7392-E475-4742-8A3E-B129FCF5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1AEA-E0BC-4E5E-A8DA-BC57C1FE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2EA7-4C97-4F64-9A3E-ED6D0752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C02A-9E16-4E16-AEF6-A1F8B4FD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379E-1F3F-4E43-BC11-B055F3F943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28600"/>
            <a:ext cx="82296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rget Numbers – Addition and Sub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267080"/>
            <a:ext cx="2209680" cy="22100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6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4343400"/>
            <a:ext cx="2210040" cy="2209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48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19720" y="4419720"/>
            <a:ext cx="2209680" cy="2209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 0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629400" y="4419720"/>
            <a:ext cx="2209680" cy="2209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38080"/>
            <a:ext cx="160020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838080"/>
            <a:ext cx="152424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838080"/>
            <a:ext cx="144792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838080"/>
            <a:ext cx="137160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00400"/>
            <a:ext cx="914400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you make any of the circle numbers by subtracting, multiplying and adding any or all of the triangle numb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838080"/>
            <a:ext cx="152388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8:26:39Z</dcterms:created>
  <dc:creator>ok</dc:creator>
  <dc:description/>
  <dc:language>en-US</dc:language>
  <cp:lastModifiedBy>ok</cp:lastModifiedBy>
  <dcterms:modified xsi:type="dcterms:W3CDTF">2003-08-28T12:16:52Z</dcterms:modified>
  <cp:revision>3</cp:revision>
  <dc:subject/>
  <dc:title>PowerPoint Presentation</dc:title>
</cp:coreProperties>
</file>