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904B-7480-404C-96E1-4F1C126BA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D45F-8D65-4B38-ADCF-768A311C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503F-9A4F-4C61-BC3F-E0D4882FF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4D98-557B-4AA2-BA8D-F88EE1164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DD38-E0D0-4A36-944E-325DB12F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EEAA-94C7-4FD4-8D35-6EDFC289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DF34-F5F1-4227-8D60-EA335E86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3F4F-CCA3-4668-9319-34BF2951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18FF-9AC5-456C-B1E2-50828496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E8CE-6D57-49D3-96FD-A07A8179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514B-F44C-4B47-8493-5B3A189D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D3DB-0EFC-4D3A-B811-1C9CB71D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5A58-2529-4CD7-BCD1-9D97CBEFE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8077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the Box -  Mixed Fr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066680"/>
          <a:ext cx="7924680" cy="4546800"/>
        </p:xfrm>
        <a:graphic>
          <a:graphicData uri="http://schemas.openxmlformats.org/drawingml/2006/table">
            <a:tbl>
              <a:tblPr/>
              <a:tblGrid>
                <a:gridCol w="1584360"/>
                <a:gridCol w="1585800"/>
                <a:gridCol w="1584360"/>
                <a:gridCol w="1585800"/>
                <a:gridCol w="1584360"/>
              </a:tblGrid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eighth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eighths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 eighth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 eighth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eighth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 eighth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 eighth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 eighth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 eighth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r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04920" y="6019920"/>
            <a:ext cx="868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5911920"/>
            <a:ext cx="76201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at is the answer below the question, either as an eighth or a quar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066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066680"/>
            <a:ext cx="1600200" cy="22860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352680"/>
            <a:ext cx="1600200" cy="22860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3352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1066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3352680"/>
            <a:ext cx="1600200" cy="22860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1066680"/>
            <a:ext cx="1600200" cy="22860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3352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1066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3352680"/>
            <a:ext cx="1600200" cy="22860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19:38Z</dcterms:created>
  <dc:creator>ok</dc:creator>
  <dc:description/>
  <dc:language>en-US</dc:language>
  <cp:lastModifiedBy>ok</cp:lastModifiedBy>
  <dcterms:modified xsi:type="dcterms:W3CDTF">2003-08-27T20:06:03Z</dcterms:modified>
  <cp:revision>4</cp:revision>
  <dc:subject/>
  <dc:title>PowerPoint Presentation</dc:title>
</cp:coreProperties>
</file>