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A98-0B98-4B1D-8445-4FD61537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0DA-5CF0-4B3C-9F86-3020029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515-49B7-40AF-87B0-6C62BBA8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E31-C83D-426C-BA15-679864D8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B61-DB4D-4AAC-8491-A291FB56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6DC-38E2-4701-B75B-0E68EBD3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7EE-F9FE-408A-8FCE-C2ED7DD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505-23DD-4670-8D86-D7BD6269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CFA-1DFC-4476-9F4E-1C71B19D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F9B-1051-407D-A3E5-EBF4B2A9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475-24A0-419C-B8D2-9CB49492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F866-2744-41BB-9C5B-8748F4EB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A282-3226-427D-866A-83516D7671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 the Box -  Fractions and Decimal Equiva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the equivalent fractions below the decima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2:14:10Z</dcterms:modified>
  <cp:revision>3</cp:revision>
  <dc:subject/>
  <dc:title>PowerPoint Presentation</dc:title>
</cp:coreProperties>
</file>