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903-6DE5-4441-A358-46E05B24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9D3-D57B-449D-A477-1DD1C9AF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18A-77F8-4C21-92E3-C8227F88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79D-3DCA-4F80-AF0D-BE067EA0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6423-FF94-421E-B00A-3E1741AE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89A-87EF-410F-9F74-0DCAE040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8C2-629B-4891-9997-545F0ABF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9AC-B537-4618-8E57-C30BDE52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EDC-0B76-40F8-9140-60B952CA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85E-6DA6-4CCD-86A8-C8099D70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CF6-C0BE-4CF5-8406-13C500B9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024-A13D-446A-A6E3-A76A05FA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7647-BA8C-49C7-A4A7-3B9CFAA7E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25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0 – 190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12536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77336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256536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328464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93372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4581360"/>
            <a:ext cx="647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844640"/>
            <a:ext cx="338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3 – 108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565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3 – 119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284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20 – 390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860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2 – 139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458136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0 – 197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260280"/>
            <a:ext cx="7417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Find out what the correct answer should be for these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5445000"/>
            <a:ext cx="7920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5445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80 – 0.97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2.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9:42:34Z</dcterms:created>
  <dc:creator>Teacher</dc:creator>
  <dc:description/>
  <dc:language>en-US</dc:language>
  <cp:lastModifiedBy>Teacher</cp:lastModifiedBy>
  <dcterms:modified xsi:type="dcterms:W3CDTF">2003-02-12T20:27:44Z</dcterms:modified>
  <cp:revision>3</cp:revision>
  <dc:subject/>
  <dc:title>Slide 1</dc:title>
</cp:coreProperties>
</file>