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AA-EB50-4903-AD20-59E68E66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C9D-B2CA-4C7D-B9BA-EE058E58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164-237A-4382-82D8-DE53C511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7C5-2BFA-4D32-A4AE-4093BE66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CA1-CE55-4C47-B4C1-BA433AB7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517-7754-4C1E-9A58-4D56FA69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874-F45F-4F43-ADFD-3E860D2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D06-5F5B-494C-81C7-BF9B16C1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9B24-E08D-4D95-A730-C9545175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2BD-337D-4933-8B27-D62608D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DFA-DB8F-4F0D-97C3-694761B5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7FF-FF40-4C19-8B53-59DB6FD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0EE-CE1A-49CD-A4AB-09F5628C8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Multiplication to 10 x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 x h =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5334120"/>
            <a:ext cx="8076960" cy="132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git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 x f =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x a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90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 x h = 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x c = f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20574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i =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124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x c = a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3886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 x d =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4572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x c = b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9:34:44Z</dcterms:modified>
  <cp:revision>3</cp:revision>
  <dc:subject/>
  <dc:title>PowerPoint Presentation</dc:title>
</cp:coreProperties>
</file>