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D8A-86F6-460C-9BE4-F48C89B5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D6E-F65C-434E-8F7A-7809CE04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699-3EF3-4DCF-8E1D-7DB805BB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123-6289-448C-ABF1-D621445C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336-7732-4565-B481-FDB41BD5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DD3-BAC3-41AA-9616-F7B83EFE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A1A-33F2-400A-B9B7-86A85537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059-0DE7-4B2A-AA93-2DCF2E79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758-83D6-4838-AD69-6B2D4FD6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C7E-2479-400C-B5E4-D1432FDE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1DB-E15F-4007-AF3E-7472A5C7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E5B-A9CA-4580-AC10-F7BEAEA3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36F7-4255-4144-9130-DA4A02D6C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the Box - 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320" cy="454644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at is the answer below the ques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x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 x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 x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x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x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3352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 x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5:47:45Z</dcterms:modified>
  <cp:revision>2</cp:revision>
  <dc:subject/>
  <dc:title>PowerPoint Presentation</dc:title>
</cp:coreProperties>
</file>