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9941-DAD7-4DDC-B807-C8F2DE1A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7AE6-93E9-49F3-8443-E657DD97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92BC-630C-4857-8349-6208914E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71E5-5DF6-4360-BB03-1F504697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2F63-CF00-422A-BE8C-0914D65F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9642-FC5F-4383-A94E-752B01E9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C2EE-24DB-46C9-9856-94540209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394A-2C45-4FA6-9994-C869B567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27C2-A589-4F62-B932-EFDFDE2A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A279-1BD5-4594-ADD5-41A626DE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D85A-ADCD-4998-AB96-AE27D318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E608-03D3-42D7-A9A3-6AFF9AD5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F9C7-4F04-4B20-BFCB-F79AE85A9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83059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ck Stone says – ‘Let’s work on Mixed Fractions, Year 6!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914400"/>
            <a:ext cx="152388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          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152388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    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303880"/>
            <a:ext cx="167652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            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990720"/>
            <a:ext cx="152388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          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990720"/>
            <a:ext cx="152424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           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2590920"/>
            <a:ext cx="1600200" cy="1739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10          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5303880"/>
            <a:ext cx="167616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           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5303880"/>
            <a:ext cx="167616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         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5303880"/>
            <a:ext cx="1676520" cy="156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            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11:54:36Z</dcterms:created>
  <dc:creator>ok</dc:creator>
  <dc:description/>
  <dc:language>en-US</dc:language>
  <cp:lastModifiedBy>ok</cp:lastModifiedBy>
  <dcterms:modified xsi:type="dcterms:W3CDTF">2003-08-28T12:03:18Z</dcterms:modified>
  <cp:revision>1</cp:revision>
  <dc:subject/>
  <dc:title>PowerPoint Presentation</dc:title>
</cp:coreProperties>
</file>