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EE8-5EA0-43B3-9FA4-1A21831E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92F-F8B5-48EC-A997-3C879F86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2F2-42DD-424F-8686-BBCD15B4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0B5-A185-403F-A9E6-C882052A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E55-349A-4034-B544-8CB87694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88F-98EA-40BC-9748-08F3F2F3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8C0-773A-40A2-ADBA-552E4777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6B4-262B-4C73-B879-5F65EF18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055-BF20-40D2-98D4-F6DCC922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1DA-2F46-41AD-A234-6CC441DA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B44-4FCB-4E4D-B30B-5F99C973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632-C9CA-486D-9410-5BA6CCE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1D1-F62D-44B7-BB9C-2A7443EE6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38080"/>
          <a:ext cx="8001000" cy="563868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208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6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7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.6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91440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unding Decimal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4:50:12Z</dcterms:created>
  <dc:creator>ok</dc:creator>
  <dc:description/>
  <dc:language>en-US</dc:language>
  <cp:lastModifiedBy>ok</cp:lastModifiedBy>
  <dcterms:modified xsi:type="dcterms:W3CDTF">2003-08-27T14:51:05Z</dcterms:modified>
  <cp:revision>1</cp:revision>
  <dc:subject/>
  <dc:title>PowerPoint Presentation</dc:title>
</cp:coreProperties>
</file>