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9AA-8E55-4BF9-91F0-C82F3833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E99-1811-4527-AE69-BAAB10FE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E78-47D0-41C6-9D8A-3530E93A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5A76-63A7-4688-A530-D2172E59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F6A-377E-4CAB-997B-4A40C0EE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7B8-6449-4D76-B106-7B9015B4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94A-A27C-44AD-88BB-C57B2748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B14-8D4F-449D-AD66-29AA4BA6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A1E-C9B3-40EB-9C8D-3E16F93D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3D7-D89E-4A31-A9FD-832F1120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8B77-8BC4-4158-AEEB-7171DC35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41F-CCA3-42CC-B8C2-D90C1571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0E9F-DECB-47A8-84A4-ABFA15E766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ing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multiplying a number and then adding or subtracting  a numb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ss th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5 to reach the number. Example: 40 multiplied by 5 is 200, take away 7 equals 1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8:45:19Z</dcterms:modified>
  <cp:revision>5</cp:revision>
  <dc:subject/>
  <dc:title>PowerPoint Presentation</dc:title>
</cp:coreProperties>
</file>