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D62-94E3-4C6E-93A8-236C34F0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AAED-99DA-4DEC-B30C-B4B67C84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E3AB-6066-4A26-9DB6-FBA2FD4B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94BA-E380-43FF-9E2D-F0D54153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56E6-2475-4132-9E4D-D8A71948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5FDF-D47D-4D4A-8D62-472D901A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C2E-1123-4002-B61C-B2F04AC1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A72F-6FFD-454A-9BA6-74811A4A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B78-1680-47AD-8AF5-060F184B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AE4-B2D2-4D78-8488-1ADF71A1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420-3705-4D0C-BF4D-67E3EA33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8924-D5D7-4B55-A007-4755A3EA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4A4E-A291-424C-B00F-FC030DDEA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3640" y="2060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8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3640" y="2637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9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3640" y="31417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38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3640" y="836640"/>
            <a:ext cx="2808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£1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78936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4292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8690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551664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9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6156360"/>
            <a:ext cx="2808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£116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22:33:30Z</dcterms:created>
  <dc:creator>Teacher</dc:creator>
  <dc:description/>
  <dc:language>en-US</dc:language>
  <cp:lastModifiedBy>Teacher</cp:lastModifiedBy>
  <dcterms:modified xsi:type="dcterms:W3CDTF">2003-02-05T22:37:56Z</dcterms:modified>
  <cp:revision>2</cp:revision>
  <dc:subject/>
  <dc:title>Slide 1</dc:title>
</cp:coreProperties>
</file>