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D9D-871F-4905-930C-73202324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CFB-A7F0-42DF-BDDF-8692F372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A7B-481D-4226-833E-5ED3CA16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C31-17B0-42E4-BB06-EEA9655B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C69-B70A-4646-987F-B0A69940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B138-0B75-4EDA-866E-BAE6B898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585-D701-4816-93AE-3C50A198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67C-EF31-470F-9F4A-FBF465D4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D02-2D25-42CE-A73B-33F490F4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052-5495-4EAB-981E-E9B2B3E7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F07-034B-43AD-8AC7-CE91DE8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D8D-44F4-4F26-BD0D-87F415E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377B-FDE8-4019-BC0A-9DCEAA6AC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id Multiplication and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397160"/>
          <a:ext cx="7924320" cy="4546080"/>
        </p:xfrm>
        <a:graphic>
          <a:graphicData uri="http://schemas.openxmlformats.org/drawingml/2006/table">
            <a:tbl>
              <a:tblPr/>
              <a:tblGrid>
                <a:gridCol w="1584720"/>
                <a:gridCol w="1585080"/>
                <a:gridCol w="1584720"/>
                <a:gridCol w="1584720"/>
                <a:gridCol w="1585080"/>
              </a:tblGrid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each number by 8. Then divide it by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7T15:20:03Z</dcterms:modified>
  <cp:revision>1</cp:revision>
  <dc:subject/>
  <dc:title>PowerPoint Presentation</dc:title>
</cp:coreProperties>
</file>