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E710-7D1B-4A54-BAC5-DA3A96A0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8B6-7638-4A87-9512-B7FBABF6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4284-51B4-42E1-9761-16AB3D0E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40A-F1AA-4229-9768-2F72B2CF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B1D-FFDC-4320-89AF-0F9E49C3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223-9E47-4C2E-A3CD-650B0CCD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A021-C055-45EE-9C92-D3DD3AD3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5E0-4693-4C5A-98F6-76F0C15D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164-9DA5-4CD0-ABD9-6CD01005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9B9-C7FA-4DF2-8F48-1E160DE0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348-6704-4F07-A994-5C516D95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A19-FEEE-4C7F-80AE-B8D5A653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9C17-FDE9-4D09-92DA-EDA701811A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8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des – Adding multiples of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219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914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o + goo = ao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4800600"/>
            <a:ext cx="4876920" cy="1810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number does each letter repres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e – o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go + ggo = ao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1240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 + ifo = ao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9907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co + fho = ao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9625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go + igo = f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20574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go + hgo = g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3124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go + ego = d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886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o + cao = ao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19:20Z</dcterms:created>
  <dc:creator>ok</dc:creator>
  <dc:description/>
  <dc:language>en-US</dc:language>
  <cp:lastModifiedBy>ok</cp:lastModifiedBy>
  <dcterms:modified xsi:type="dcterms:W3CDTF">2003-08-27T16:54:27Z</dcterms:modified>
  <cp:revision>2</cp:revision>
  <dc:subject/>
  <dc:title>PowerPoint Presentation</dc:title>
</cp:coreProperties>
</file>