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C1B-AD50-41FE-85B2-E3D1FEFA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0E9-7D0D-4F63-B165-D9D2ACB1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297-6EA7-4B03-9B9E-3FEB50E4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E90-7963-44C7-9F39-25A1F19E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D31-0E2E-4088-BAC5-24019BD9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5C0-8C48-49C9-B6B5-1624C762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115D-524C-4C9C-A3D0-3500F855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D52-DD02-448C-AB60-AA78AAD7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84D-74CB-4F71-824D-3122C686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ACE-76BC-4A83-B678-71E4ABC5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AA0-F024-4FC9-A020-05205971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0A65-C741-4E04-8763-D461EF92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D20F-CA4F-4EEB-B7B2-04444A3B2C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ng Numbers -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295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Times New Roman"/>
              </a:rPr>
              <a:t>613 x 2 = 1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3716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209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257 x 3  =  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22860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200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68 x 2  = 7  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2767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114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15 x 3 = 1            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191120"/>
            <a:ext cx="3808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4191120"/>
            <a:ext cx="3808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029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922 x 2 =  1      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5105520"/>
            <a:ext cx="38088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867280"/>
            <a:ext cx="9144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out what the missing digits are for these multipli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1295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837 x 3  = 26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2209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561 x 2 =           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124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98 x 3 = 1      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2004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113 x 2 =      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1148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41148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709 x 3 = 2     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0292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0292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7:13:47Z</dcterms:created>
  <dc:creator>ok</dc:creator>
  <dc:description/>
  <dc:language>en-US</dc:language>
  <cp:lastModifiedBy>ok</cp:lastModifiedBy>
  <dcterms:modified xsi:type="dcterms:W3CDTF">2003-08-27T18:41:48Z</dcterms:modified>
  <cp:revision>2</cp:revision>
  <dc:subject/>
  <dc:title>PowerPoint Presentation</dc:title>
</cp:coreProperties>
</file>