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CFF-B90F-45DD-878E-5258FC6D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5422-EEAC-4C82-BF13-B886D918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0A0-E42D-451F-B07F-E2671E39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993-5085-4FB0-80D3-53F771BD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F93-28E5-4229-A796-484B8C86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4A5-F41B-42F2-9C10-776C3DBA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1D9-21CC-4AD0-9308-1637EB5E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EC7-5DB5-477E-8822-253B9277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6D5-CB13-42EC-B828-2FF8816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E0C-B63B-4F8C-978D-3B2CF35C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7BF-7243-4BFA-8465-6A9196F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B4D-DED9-4BDB-A47D-EAED8BDE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6921-8102-4387-BF5A-F5DC3B1F4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260280"/>
            <a:ext cx="69850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48428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70828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8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429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5084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50846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1413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04000" y="141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2637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270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860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64000" y="429264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64000" y="508464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5157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9:38:12Z</dcterms:created>
  <dc:creator>Teacher</dc:creator>
  <dc:description/>
  <dc:language>en-US</dc:language>
  <cp:lastModifiedBy>Teacher</cp:lastModifiedBy>
  <dcterms:modified xsi:type="dcterms:W3CDTF">2003-03-25T19:58:37Z</dcterms:modified>
  <cp:revision>2</cp:revision>
  <dc:subject/>
  <dc:title>Slide 1</dc:title>
</cp:coreProperties>
</file>