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2098-CC6C-42B1-BA39-6C1982F7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605E-B5F0-436D-8FF2-78EA4B62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F15A-C24D-4705-B120-0A214A53E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10EC-604F-4A6E-A590-747A02F4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CABF-9A69-4B9B-B111-1E17C87F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194B-0D7A-4BDE-B628-752BB0B3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D900-59FB-4BB6-9D62-88E7C9A2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A7D1-FD4D-49F3-9CCD-3E47325C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0EF7-607A-4088-9178-D1B227FF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72BE-6DDA-4CB4-8AB2-DD721E90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8B0F-3488-4048-9DD1-BDF70337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E54A-7B34-46B2-9FF6-D9C05F2A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2A39-5D6A-4E21-A97A-470B221B1B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8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784872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 Wrong - Sub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4479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320 - 180 = 1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94360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Find the correct answers for these subtractions, showing how you found the answer for each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3623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220 - 170 = 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2767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620 - 230 = 3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411480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940 - 180 = 5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495288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550 - 210 = 4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10080" y="14479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730 - 570 = 2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10080" y="23623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280 - 190 = 1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32767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440 - 170 = 3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411480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530 - 160 = 3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495288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890 - 380 = 7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9:46:19Z</dcterms:created>
  <dc:creator>ok</dc:creator>
  <dc:description/>
  <dc:language>en-US</dc:language>
  <cp:lastModifiedBy>ok</cp:lastModifiedBy>
  <dcterms:modified xsi:type="dcterms:W3CDTF">2003-08-28T12:33:07Z</dcterms:modified>
  <cp:revision>2</cp:revision>
  <dc:subject/>
  <dc:title>PowerPoint Presentation</dc:title>
</cp:coreProperties>
</file>