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6330-1C9D-47DF-9436-83937F2B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6743-276F-49D0-8E39-CF7A77AD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703-514F-407B-B1FD-E850E913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C96-5B10-4ABF-9837-E5F0920B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C797-3F76-41E1-804E-5BFD736A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E53-1E27-4EDA-87EF-0D25A61B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35DF-DF24-41D3-9A85-331591DC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55C7-6240-42AE-9C3B-B593FC7E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651-3F17-4544-859C-CA2B549D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72E-0802-4FD7-945A-24DD06E6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31CF-6243-4976-A747-94CC0CEF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0239-2419-4104-A89F-ABC771DA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D32D-1C45-4CAD-8BEA-07F7F82E85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28600"/>
            <a:ext cx="8229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rget Numbers – Plac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267080"/>
            <a:ext cx="2209680" cy="2210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4343400"/>
            <a:ext cx="221004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4419720"/>
            <a:ext cx="220968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419720"/>
            <a:ext cx="220968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8080"/>
            <a:ext cx="160020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838080"/>
            <a:ext cx="152424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838080"/>
            <a:ext cx="144792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838080"/>
            <a:ext cx="137160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00400"/>
            <a:ext cx="9144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make any of the circle numbers by multiplying and adding any or all of the triangle numb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838080"/>
            <a:ext cx="152388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8:26:39Z</dcterms:created>
  <dc:creator>ok</dc:creator>
  <dc:description/>
  <dc:language>en-US</dc:language>
  <cp:lastModifiedBy>ok</cp:lastModifiedBy>
  <dcterms:modified xsi:type="dcterms:W3CDTF">2003-08-27T18:33:04Z</dcterms:modified>
  <cp:revision>2</cp:revision>
  <dc:subject/>
  <dc:title>PowerPoint Presentation</dc:title>
</cp:coreProperties>
</file>