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E29-86CE-4035-BBAF-F783660E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EF2-BE33-4B95-97A9-8236A480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A87-A1EF-49F0-8C2D-61C55C33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FFA-48B6-4EC1-B91E-302AAFCE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AA2-3701-4152-9569-2B2750F5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11B-5E6E-463B-9887-0267B758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3AB-0D15-45EB-B20F-408B04C6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1DC-12BD-4169-B8AD-C8E46A59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C03-CD76-4930-949E-6A937ECC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B48-2FBA-40F1-88B4-27773E3F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630-802D-447A-8D1D-00B0FF69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A31-7E80-4AD3-A794-92A60AD6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F3E-B53A-4CCF-AE4C-C20B0204E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All Wrong – Multiplication</a:t>
            </a:r>
            <a:r>
              <a:rPr b="1" i="1" lang="en-US" sz="3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371600"/>
          <a:ext cx="8229600" cy="39402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840"/>
                <a:gridCol w="1645920"/>
                <a:gridCol w="164628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x 20 = 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x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5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 x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6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x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x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 x 20 = 1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x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x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x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9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x 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09480" y="5715000"/>
            <a:ext cx="815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Work out and explain what is wrong with each multiplication and find the correct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58Z</dcterms:created>
  <dc:creator>ok</dc:creator>
  <dc:description/>
  <dc:language>en-US</dc:language>
  <cp:lastModifiedBy>ok</cp:lastModifiedBy>
  <dcterms:modified xsi:type="dcterms:W3CDTF">2003-08-27T15:36:24Z</dcterms:modified>
  <cp:revision>2</cp:revision>
  <dc:subject/>
  <dc:title>PowerPoint Presentation</dc:title>
</cp:coreProperties>
</file>