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55C-A857-48E6-99E9-C74AB900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070-D6D1-43FB-96B4-4CE11603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BD3-2E16-446B-ADD4-7250F991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F58-175A-4D50-ACD4-4A2BCDE8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9CF7-AE3C-49D8-B827-3725963B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EED-1B74-4DBC-97BD-B1242CDB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3ED1-5C5E-4042-BE21-70697600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333-4952-466C-88BB-546E7330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D32-AA3A-4F72-A744-44C0E720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606-E422-4B7E-BACE-2567A8EE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3EC-9C54-49EB-A527-CEE32D1E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4F5-14A3-4EFA-87D5-801868C6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6B98-5C8F-4E50-9FF6-712F9793E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0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: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: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: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908000" y="15573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92360" y="1844640"/>
            <a:ext cx="107928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1844640"/>
            <a:ext cx="107964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: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1844640"/>
            <a:ext cx="107964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72360" y="1844640"/>
            <a:ext cx="107928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: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3860640"/>
            <a:ext cx="107928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3860640"/>
            <a:ext cx="107964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: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3933720"/>
            <a:ext cx="107964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: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72360" y="3933720"/>
            <a:ext cx="1079280" cy="7034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: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6028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60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numbers would lie behind the ratios if they were ratios for a bag of 60 red and white ball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0:39:07Z</dcterms:created>
  <dc:creator>Teacher</dc:creator>
  <dc:description/>
  <dc:language>en-US</dc:language>
  <cp:lastModifiedBy>Teacher</cp:lastModifiedBy>
  <dcterms:modified xsi:type="dcterms:W3CDTF">2003-02-07T21:56:41Z</dcterms:modified>
  <cp:revision>3</cp:revision>
  <dc:subject/>
  <dc:title>Slide 1</dc:title>
</cp:coreProperties>
</file>