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383-5491-4563-9202-46B105DF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AA3-EE2A-456F-8081-4317D9C9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46D-C6E0-49D9-85E9-978A82E2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B95-BB69-42D7-81ED-331237E8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61F-91BA-4D6E-A183-FFBCDC46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191-AB1F-46EE-84DF-26BFF969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0B2-3096-4479-BF29-FC5C45D6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598-4C09-4F23-B4C2-90674A19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A9B-819B-43E4-8F16-97E263F8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689F-B19E-4649-9B59-3B62A3FF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D72-FD60-48A2-B303-59B727A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210-8677-48F1-A029-055D6BA3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480-1B45-447B-A05C-2677D1ADB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Rounding Decimals to the nearest whol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must we add to the decimal numbers to reach the next whole number written bel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7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8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4:28:57Z</dcterms:modified>
  <cp:revision>5</cp:revision>
  <dc:subject/>
  <dc:title>PowerPoint Presentation</dc:title>
</cp:coreProperties>
</file>