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37A-E6D0-436F-94E7-0836CF91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95D-0215-4FB5-9C5F-CA4C6A45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107-BBC4-4105-87A1-18095C94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1C6D-870B-4A37-A886-F840FFB5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AE6-0FD6-4A09-8416-4180E020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87F-8A42-4A80-90DE-4F590488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866-A023-438B-94EB-DD725A5A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317-B72C-4093-B781-9855D0D7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CC5-AD6B-4D6E-B73C-00B24C1A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BF0-9077-4959-B415-CEDBA374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6A1-5E1A-41CE-8819-6DE38AFD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AAF-B55E-490D-92BD-B282F1A0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74E1-DA8C-4BC4-A71F-6F8AF365A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83059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ultiplication and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1397160"/>
          <a:ext cx="7924680" cy="4851000"/>
        </p:xfrm>
        <a:graphic>
          <a:graphicData uri="http://schemas.openxmlformats.org/drawingml/2006/table">
            <a:tbl>
              <a:tblPr/>
              <a:tblGrid>
                <a:gridCol w="1981440"/>
                <a:gridCol w="1980720"/>
                <a:gridCol w="1981080"/>
                <a:gridCol w="1981440"/>
              </a:tblGrid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 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X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99ff99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27:19Z</dcterms:created>
  <dc:creator>ok</dc:creator>
  <dc:description/>
  <dc:language>en-US</dc:language>
  <cp:lastModifiedBy>ok</cp:lastModifiedBy>
  <dcterms:modified xsi:type="dcterms:W3CDTF">2003-08-27T15:27:32Z</dcterms:modified>
  <cp:revision>1</cp:revision>
  <dc:subject/>
  <dc:title>PowerPoint Presentation</dc:title>
</cp:coreProperties>
</file>