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D52-0773-47D7-BB7B-00C4DA30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68C-D187-4A05-BBFE-C0C44A94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CDC-13F0-4290-8E32-4FD492E4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ED7-3FEF-48DD-9AA8-CB9A3F83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7B3-990A-4007-B077-98165B6E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4F6-508E-486C-A1AF-0B0BEA99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F70-FEEA-4657-B934-B69A389B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834F-B4C7-45FC-87C1-2740878A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F7A-9DE4-4F13-96AF-7640158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ADF-E5C7-4348-AA0F-87823FA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257-D248-4E6E-BC0C-0296E67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1C4-52F1-42E8-93D2-2326413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032-53F9-4ABB-B0AD-D78FA9951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all the correct answers on the RIGHT when dividing the numbers on the LEFT by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84464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1844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7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2781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789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3789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7242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7242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73408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9280" y="573408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1773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6764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2637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96360" y="364500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364500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96360" y="4581360"/>
            <a:ext cx="93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4508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764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5516640"/>
            <a:ext cx="93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8:24:35Z</dcterms:created>
  <dc:creator>Teacher</dc:creator>
  <dc:description/>
  <dc:language>en-US</dc:language>
  <cp:lastModifiedBy>Teacher</cp:lastModifiedBy>
  <dcterms:modified xsi:type="dcterms:W3CDTF">2003-03-05T08:29:18Z</dcterms:modified>
  <cp:revision>2</cp:revision>
  <dc:subject/>
  <dc:title>Slide 1</dc:title>
</cp:coreProperties>
</file>