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FE50-A2E2-4C09-9334-75DD4C5BA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A0D0-F490-4817-AF2F-4481810C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6E60-510A-487E-9DEA-6143C5669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F7BF-F0F5-4936-8949-6043977B4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3961-377D-4AFB-BC13-2257C4B0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5D4D-0E31-4712-ACE3-E12E4ED9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21F7-C7B1-4B5F-A301-F1A440DE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3CD9-28AB-48CA-B369-A42B6B5B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A996-FB34-4A30-9F0B-A24F2945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E9E5-BA72-4101-810B-CA7D3309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3AC5-F836-45D3-A755-E2BE204F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0491-DC0C-40B6-B191-492E0E16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9EEE-D8DC-4771-8290-4E5705330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2286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des – Finding halves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121932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685800"/>
            <a:ext cx="266688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of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1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266688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of 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f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2971800"/>
            <a:ext cx="266688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of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c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4114800"/>
            <a:ext cx="266688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of 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c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5410080"/>
            <a:ext cx="266688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of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b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72200" y="685800"/>
            <a:ext cx="266688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of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72200" y="1828800"/>
            <a:ext cx="266688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of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72200" y="2895480"/>
            <a:ext cx="266688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of 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o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3962520"/>
            <a:ext cx="266688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of 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io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ca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5105520"/>
            <a:ext cx="266688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of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ho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ga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2209680"/>
            <a:ext cx="2057400" cy="25311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number does each letter repres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6:19:20Z</dcterms:created>
  <dc:creator>ok</dc:creator>
  <dc:description/>
  <dc:language>en-US</dc:language>
  <cp:lastModifiedBy>ok</cp:lastModifiedBy>
  <dcterms:modified xsi:type="dcterms:W3CDTF">2003-08-27T16:19:33Z</dcterms:modified>
  <cp:revision>1</cp:revision>
  <dc:subject/>
  <dc:title>PowerPoint Presentation</dc:title>
</cp:coreProperties>
</file>