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3CB-887E-420F-B70B-4A198307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F7C-1FA2-4BD2-9548-B29C199F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1A71-F438-4072-BA06-C7CDBCA2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CE6A-F8F5-4620-B2C5-47A46F1C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5818-FC7C-43D2-8A02-B0408383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D0E-6582-478D-84C6-82B931F6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908-1956-4495-9D0F-A51197C3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CC0-D005-4FA1-A10C-595E52E3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80B-3C9E-499B-A6D3-D074DBD1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0C9-03A4-41A3-BDE9-EA87DCFF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4F2-8FDB-4AC0-B1D9-49D198EE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374-9754-4A68-8AC1-89B9814F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1F7D-3536-4463-AD71-4820F8C71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47628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coins below will still be available tomorrow morning. However, the 1p coin will be withdrawn after today. Which amounts of money will it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possi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make in the mor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2565360"/>
            <a:ext cx="936720" cy="1008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285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708280"/>
            <a:ext cx="792000" cy="720720"/>
          </a:xfrm>
          <a:prstGeom prst="octagon">
            <a:avLst>
              <a:gd name="adj" fmla="val 292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36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285264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3640" y="4221000"/>
            <a:ext cx="1081080" cy="1224000"/>
          </a:xfrm>
          <a:prstGeom prst="donut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458136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£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48360" y="4076640"/>
            <a:ext cx="1224000" cy="1368360"/>
          </a:xfrm>
          <a:prstGeom prst="octagon">
            <a:avLst>
              <a:gd name="adj" fmla="val 292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450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2565360"/>
            <a:ext cx="865440" cy="863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16720" y="285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278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58920" y="3933720"/>
            <a:ext cx="1440000" cy="13669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4365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3:50:32Z</dcterms:created>
  <dc:creator>Teacher</dc:creator>
  <dc:description/>
  <dc:language>en-US</dc:language>
  <cp:lastModifiedBy>Teacher</cp:lastModifiedBy>
  <dcterms:modified xsi:type="dcterms:W3CDTF">2003-02-23T13:54:04Z</dcterms:modified>
  <cp:revision>2</cp:revision>
  <dc:subject/>
  <dc:title>Slide 1</dc:title>
</cp:coreProperties>
</file>