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57F-0C7C-4C90-84DD-45FF9D2D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4BD-FFC5-4544-AF67-37CDDBC8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958-75DD-4225-8E13-0EAB6B07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0E7-67EC-4F3D-8C3C-742C79E0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B5CE-E1B8-4489-9C2F-87242097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9B8-2CAC-4E6C-9F7A-CEC67486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235-F319-4791-A0FA-7E85CF86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5E9-BA24-4056-847D-31276656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203-CC17-4EAE-AFC7-AB8EBADE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2E8-EFAA-48C7-A2A8-0F8CBEB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95FE-7B64-4DF0-B0F6-D0019676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A0C-D4AA-49DD-B319-BF7F6F9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CB34-F8C2-445B-899F-1D1D1874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98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981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98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981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360" y="907920"/>
            <a:ext cx="93528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84464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844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191628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1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1916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1844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781360"/>
            <a:ext cx="93492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3280" y="270828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781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781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.08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4005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.21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386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4005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4005360"/>
            <a:ext cx="935280" cy="504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4941720"/>
            <a:ext cx="934920" cy="50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4941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4869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49417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4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89000"/>
            <a:ext cx="734544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Arial"/>
              </a:rPr>
              <a:t>Round 2 place decimal numbers to the nearest whol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1:08:05Z</dcterms:created>
  <dc:creator>Teacher</dc:creator>
  <dc:description/>
  <dc:language>en-US</dc:language>
  <cp:lastModifiedBy>Teacher</cp:lastModifiedBy>
  <dcterms:modified xsi:type="dcterms:W3CDTF">2003-02-09T21:18:40Z</dcterms:modified>
  <cp:revision>2</cp:revision>
  <dc:subject/>
  <dc:title>Slide 1</dc:title>
</cp:coreProperties>
</file>