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E07-D213-4772-9E75-23CCCA4B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19C7-D1EF-4B85-AE48-44A6759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CD6-A156-45C3-AC63-701D9854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D3BB-1DD0-4452-AF8B-D3D5D7FC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52B-4A4A-4F34-84DD-53041CD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7BF4-751D-4D90-9AA5-082FB0E9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2BE-44C3-44F1-9C15-A1E38AB2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C09-1F9E-48BB-82D4-24DDC230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04D-0FC0-4B89-BA19-8DCC863C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162-BAF1-4703-90FB-B2843E94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33E-8561-4666-A923-51799D9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14B-DA4B-4009-A08F-D56A9AD1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840-91E6-420D-B1A6-8D2FAC56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60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vide these numbers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11:04Z</dcterms:created>
  <dc:creator>Teacher</dc:creator>
  <dc:description/>
  <dc:language>en-US</dc:language>
  <cp:lastModifiedBy>Teacher</cp:lastModifiedBy>
  <dcterms:modified xsi:type="dcterms:W3CDTF">2003-03-03T22:11:19Z</dcterms:modified>
  <cp:revision>1</cp:revision>
  <dc:subject/>
  <dc:title>Slide 1</dc:title>
</cp:coreProperties>
</file>