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1D71-0EAD-431C-B322-2FAE4BFC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26D-FF18-4594-88D1-464279E2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1C5-2679-4FBF-95FD-2106DF6E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FD2-B1DE-4265-B68D-BB6DAB6E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561-55EE-4B14-98C4-9F80308B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9E2-2EA0-492B-936A-980308E1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063-56C2-4019-BB56-D7590765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5F3-C9C8-4E7B-8196-C90CF4C4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AC1-9A3A-450F-8EC0-08FEAB02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1E7-F71C-47BB-A21E-4FBCFAEA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9A2-43CA-4510-BDAA-764AD57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67D-9151-4425-A3D5-BDB0405D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925-004F-4B26-BCE8-20617BD7C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126828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8 bottles wide and 6 bottles deep. If there are 13 rows in a crate, how many bottles are there in a c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3645000"/>
            <a:ext cx="720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has rows of beer that are 7 bottles wide and 5 bottles deep. If there are 12 rows in a crate, how many bottles would be lest in a crate if you had delivered 257 bott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weighs 210 kgs. If there 350 bottles on a crate, how much will one bottle weigh in gram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314172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crate of beer costs £75. If there are 5 rows that are 10 bottles wide and 5 bottles deep, how much will one bottle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22:07:54Z</dcterms:created>
  <dc:creator>Teacher</dc:creator>
  <dc:description/>
  <dc:language>en-US</dc:language>
  <cp:lastModifiedBy>Teacher</cp:lastModifiedBy>
  <dcterms:modified xsi:type="dcterms:W3CDTF">2003-03-21T09:39:08Z</dcterms:modified>
  <cp:revision>2</cp:revision>
  <dc:subject/>
  <dc:title>Slide 1</dc:title>
</cp:coreProperties>
</file>