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303-4EB5-40E3-BD65-3790781B8957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will loop back to the first working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 Read the calculation when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Count the pictures as they 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 Count the pictures as they dis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 Count how many are lef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 Check your answer as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 Re-read the complete calcul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EEC-9813-4A7B-BC95-B7C50EFB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FB2-CAAC-4E25-8DD9-9D7C3F8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7F3-8E65-4510-A85A-FF02D9B9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EE3-2428-4AD0-ABC9-65F71BF4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E43-D47B-4364-B61E-9CCE2729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DC1-E719-4771-98BE-94CFD88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76E-AB77-44D5-87CF-51242B9B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036-C3F9-4B94-A87B-B677D8DF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D69-F96D-4A58-A44D-66905E20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5A4-CFB1-4D6E-83A0-A1E24DB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FCC-274B-4179-A238-CCE4DFE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5DE-B687-4BF1-B071-B8C3260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0B3-6C25-4799-AE60-BBD771ABD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 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09680"/>
            <a:ext cx="5410080" cy="4430880"/>
            <a:chOff x="457200" y="2209680"/>
            <a:chExt cx="5410080" cy="4430880"/>
          </a:xfrm>
        </p:grpSpPr>
        <p:graphicFrame>
          <p:nvGraphicFramePr>
            <p:cNvPr id="131" name=""/>
            <p:cNvGraphicFramePr/>
            <p:nvPr/>
          </p:nvGraphicFramePr>
          <p:xfrm>
            <a:off x="457200" y="2971800"/>
            <a:ext cx="1676520" cy="138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971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2362320" y="3809880"/>
            <a:ext cx="1676160" cy="1382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380988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286000" y="2209680"/>
            <a:ext cx="1676520" cy="138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0" y="22096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33520" y="4648320"/>
            <a:ext cx="1676160" cy="13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2438280" y="5257800"/>
            <a:ext cx="1676520" cy="1382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38280" y="5257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4191120" y="4648320"/>
            <a:ext cx="1676160" cy="1382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911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4114800" y="3124080"/>
            <a:ext cx="1676520" cy="1382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114800" y="31240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14800" y="3124080"/>
          <a:ext cx="1676520" cy="13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14800" y="31240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486400" y="762120"/>
            <a:ext cx="129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286000"/>
            <a:ext cx="4572000" cy="4367160"/>
            <a:chOff x="457200" y="2286000"/>
            <a:chExt cx="4572000" cy="4367160"/>
          </a:xfrm>
        </p:grpSpPr>
        <p:graphicFrame>
          <p:nvGraphicFramePr>
            <p:cNvPr id="172" name=""/>
            <p:cNvGraphicFramePr/>
            <p:nvPr/>
          </p:nvGraphicFramePr>
          <p:xfrm>
            <a:off x="533520" y="2286000"/>
            <a:ext cx="1904760" cy="101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533520" y="3352680"/>
            <a:ext cx="1904760" cy="101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335268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457200" y="4495680"/>
            <a:ext cx="1905120" cy="101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3124080" y="3352680"/>
            <a:ext cx="1905120" cy="1014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24080" y="3352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048120" y="2286000"/>
            <a:ext cx="1904760" cy="1014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481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457200" y="5638680"/>
            <a:ext cx="1905120" cy="1014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3124080" y="4495680"/>
            <a:ext cx="1905120" cy="1014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2408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3124080" y="5638680"/>
            <a:ext cx="1905120" cy="1014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12408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124080" y="4495680"/>
          <a:ext cx="1905120" cy="1014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638680" y="83808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590920"/>
            <a:ext cx="8534160" cy="3378240"/>
            <a:chOff x="304920" y="2590920"/>
            <a:chExt cx="8534160" cy="3378240"/>
          </a:xfrm>
        </p:grpSpPr>
        <p:graphicFrame>
          <p:nvGraphicFramePr>
            <p:cNvPr id="239" name=""/>
            <p:cNvGraphicFramePr/>
            <p:nvPr/>
          </p:nvGraphicFramePr>
          <p:xfrm>
            <a:off x="380880" y="4495680"/>
            <a:ext cx="1524240" cy="147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495680"/>
                      <a:ext cx="152424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133720" y="4495680"/>
            <a:ext cx="1523880" cy="147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3962520" y="4495680"/>
            <a:ext cx="1523880" cy="147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5" name=""/>
            <p:cNvGrpSpPr/>
            <p:nvPr/>
          </p:nvGrpSpPr>
          <p:grpSpPr>
            <a:xfrm>
              <a:off x="304920" y="2590920"/>
              <a:ext cx="8534160" cy="3301920"/>
              <a:chOff x="304920" y="2590920"/>
              <a:chExt cx="8534160" cy="3301920"/>
            </a:xfrm>
          </p:grpSpPr>
          <p:graphicFrame>
            <p:nvGraphicFramePr>
              <p:cNvPr id="246" name=""/>
              <p:cNvGraphicFramePr/>
              <p:nvPr/>
            </p:nvGraphicFramePr>
            <p:xfrm>
              <a:off x="304920" y="2590920"/>
              <a:ext cx="1523880" cy="147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4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0492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8" name=""/>
              <p:cNvGraphicFramePr/>
              <p:nvPr/>
            </p:nvGraphicFramePr>
            <p:xfrm>
              <a:off x="2057400" y="2590920"/>
              <a:ext cx="1523880" cy="14731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05740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"/>
              <p:cNvGraphicFramePr/>
              <p:nvPr/>
            </p:nvGraphicFramePr>
            <p:xfrm>
              <a:off x="3809880" y="2590920"/>
              <a:ext cx="1524240" cy="1473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5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8098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"/>
              <p:cNvGraphicFramePr/>
              <p:nvPr/>
            </p:nvGraphicFramePr>
            <p:xfrm>
              <a:off x="5791320" y="4419720"/>
              <a:ext cx="1523880" cy="14731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791320" y="44197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"/>
              <p:cNvGraphicFramePr/>
              <p:nvPr/>
            </p:nvGraphicFramePr>
            <p:xfrm>
              <a:off x="5638680" y="2590920"/>
              <a:ext cx="1524240" cy="14731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6386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7315200" y="3505320"/>
              <a:ext cx="1523880" cy="147312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7315200" y="35053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2590920"/>
          <a:ext cx="15238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057400" y="2590920"/>
          <a:ext cx="1523880" cy="14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809880" y="2590920"/>
          <a:ext cx="1524240" cy="147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80880" y="4495680"/>
          <a:ext cx="1524240" cy="147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4495680"/>
                    <a:ext cx="15242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33720" y="4495680"/>
          <a:ext cx="1523880" cy="1473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962520" y="4495680"/>
          <a:ext cx="1523880" cy="147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791320" y="4419720"/>
          <a:ext cx="1523880" cy="147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4197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638680" y="2590920"/>
          <a:ext cx="1524240" cy="1473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386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5791320" y="838080"/>
            <a:ext cx="106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514600"/>
            <a:ext cx="5595840" cy="3808440"/>
            <a:chOff x="457200" y="2514600"/>
            <a:chExt cx="5595840" cy="3808440"/>
          </a:xfrm>
        </p:grpSpPr>
        <p:graphicFrame>
          <p:nvGraphicFramePr>
            <p:cNvPr id="52" name=""/>
            <p:cNvGraphicFramePr/>
            <p:nvPr/>
          </p:nvGraphicFramePr>
          <p:xfrm>
            <a:off x="4267080" y="4724280"/>
            <a:ext cx="1785960" cy="159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472428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4191120" y="2514600"/>
            <a:ext cx="1785960" cy="159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251460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362320" y="3733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62320" y="3733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33520" y="2743200"/>
            <a:ext cx="7607160" cy="3486240"/>
            <a:chOff x="533520" y="2743200"/>
            <a:chExt cx="7607160" cy="3486240"/>
          </a:xfrm>
        </p:grpSpPr>
        <p:graphicFrame>
          <p:nvGraphicFramePr>
            <p:cNvPr id="277" name=""/>
            <p:cNvGraphicFramePr/>
            <p:nvPr/>
          </p:nvGraphicFramePr>
          <p:xfrm>
            <a:off x="533520" y="2743200"/>
            <a:ext cx="1511280" cy="165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6629400" y="3581280"/>
            <a:ext cx="1511280" cy="165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29400" y="35812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533520" y="4572000"/>
            <a:ext cx="1511280" cy="1657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2666880" y="2743200"/>
            <a:ext cx="1511280" cy="1657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6688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2666880" y="4495680"/>
            <a:ext cx="1511280" cy="1657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44956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4800600" y="4572000"/>
            <a:ext cx="1511280" cy="1657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0060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4800600" y="2743200"/>
            <a:ext cx="1511280" cy="1657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80060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800600" y="45720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76212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33520" y="2743200"/>
            <a:ext cx="5638680" cy="3411360"/>
            <a:chOff x="533520" y="2743200"/>
            <a:chExt cx="5638680" cy="3411360"/>
          </a:xfrm>
        </p:grpSpPr>
        <p:graphicFrame>
          <p:nvGraphicFramePr>
            <p:cNvPr id="328" name=""/>
            <p:cNvGraphicFramePr/>
            <p:nvPr/>
          </p:nvGraphicFramePr>
          <p:xfrm>
            <a:off x="533520" y="2743200"/>
            <a:ext cx="2514600" cy="14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"/>
            <p:cNvGraphicFramePr/>
            <p:nvPr/>
          </p:nvGraphicFramePr>
          <p:xfrm>
            <a:off x="3657600" y="4724280"/>
            <a:ext cx="2514600" cy="143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760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"/>
            <p:cNvGraphicFramePr/>
            <p:nvPr/>
          </p:nvGraphicFramePr>
          <p:xfrm>
            <a:off x="533520" y="4724280"/>
            <a:ext cx="2514600" cy="143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3657600" y="2743200"/>
            <a:ext cx="2514600" cy="143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5760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657600" y="2743200"/>
          <a:ext cx="251460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334120" y="1066680"/>
            <a:ext cx="152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8600" y="2895480"/>
            <a:ext cx="8686800" cy="3419640"/>
            <a:chOff x="228600" y="2895480"/>
            <a:chExt cx="8686800" cy="3419640"/>
          </a:xfrm>
        </p:grpSpPr>
        <p:graphicFrame>
          <p:nvGraphicFramePr>
            <p:cNvPr id="354" name=""/>
            <p:cNvGraphicFramePr/>
            <p:nvPr/>
          </p:nvGraphicFramePr>
          <p:xfrm>
            <a:off x="228600" y="2895480"/>
            <a:ext cx="2743200" cy="143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3200400" y="3886200"/>
            <a:ext cx="2743200" cy="1438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38862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"/>
            <p:cNvGraphicFramePr/>
            <p:nvPr/>
          </p:nvGraphicFramePr>
          <p:xfrm>
            <a:off x="6172200" y="4876920"/>
            <a:ext cx="2743200" cy="1438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487692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"/>
            <p:cNvGraphicFramePr/>
            <p:nvPr/>
          </p:nvGraphicFramePr>
          <p:xfrm>
            <a:off x="6019920" y="2895480"/>
            <a:ext cx="2743200" cy="1438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992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"/>
            <p:cNvGraphicFramePr/>
            <p:nvPr/>
          </p:nvGraphicFramePr>
          <p:xfrm>
            <a:off x="228600" y="4800600"/>
            <a:ext cx="2743200" cy="143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600" y="48006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9920" y="2895480"/>
          <a:ext cx="2743200" cy="143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91120" y="2514600"/>
          <a:ext cx="1785960" cy="15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514600"/>
                    <a:ext cx="17859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6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83808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2209680"/>
            <a:ext cx="6532560" cy="4400640"/>
            <a:chOff x="533520" y="2209680"/>
            <a:chExt cx="6532560" cy="4400640"/>
          </a:xfrm>
        </p:grpSpPr>
        <p:graphicFrame>
          <p:nvGraphicFramePr>
            <p:cNvPr id="392" name=""/>
            <p:cNvGraphicFramePr/>
            <p:nvPr/>
          </p:nvGraphicFramePr>
          <p:xfrm>
            <a:off x="609480" y="2209680"/>
            <a:ext cx="1808280" cy="211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2209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2895480" y="2286000"/>
            <a:ext cx="1808280" cy="211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6" name=""/>
            <p:cNvGraphicFramePr/>
            <p:nvPr/>
          </p:nvGraphicFramePr>
          <p:xfrm>
            <a:off x="533520" y="4495680"/>
            <a:ext cx="1807920" cy="21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2819520" y="4495680"/>
            <a:ext cx="1807920" cy="2114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19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"/>
            <p:cNvGraphicFramePr/>
            <p:nvPr/>
          </p:nvGraphicFramePr>
          <p:xfrm>
            <a:off x="5181480" y="4495680"/>
            <a:ext cx="1808280" cy="2114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81480" y="4495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5257800" y="2286000"/>
            <a:ext cx="1808280" cy="2114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5780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819520" y="4495680"/>
          <a:ext cx="180792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9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867280" y="685800"/>
            <a:ext cx="175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981080" y="838080"/>
            <a:ext cx="4191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0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09480" y="3048120"/>
            <a:ext cx="8001000" cy="2743200"/>
            <a:chOff x="609480" y="3048120"/>
            <a:chExt cx="8001000" cy="2743200"/>
          </a:xfrm>
        </p:grpSpPr>
        <p:graphicFrame>
          <p:nvGraphicFramePr>
            <p:cNvPr id="439" name=""/>
            <p:cNvGraphicFramePr/>
            <p:nvPr/>
          </p:nvGraphicFramePr>
          <p:xfrm>
            <a:off x="609480" y="3048120"/>
            <a:ext cx="160020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"/>
            <p:cNvGraphicFramePr/>
            <p:nvPr/>
          </p:nvGraphicFramePr>
          <p:xfrm>
            <a:off x="2743200" y="3048120"/>
            <a:ext cx="1600200" cy="11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320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609480" y="4648320"/>
            <a:ext cx="1600200" cy="11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4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2743200" y="4648320"/>
            <a:ext cx="1600200" cy="11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4320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876920" y="4648320"/>
            <a:ext cx="1600200" cy="114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87692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"/>
            <p:cNvGraphicFramePr/>
            <p:nvPr/>
          </p:nvGraphicFramePr>
          <p:xfrm>
            <a:off x="4876920" y="3048120"/>
            <a:ext cx="1600200" cy="114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7692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"/>
            <p:cNvGraphicFramePr/>
            <p:nvPr/>
          </p:nvGraphicFramePr>
          <p:xfrm>
            <a:off x="7010280" y="4648320"/>
            <a:ext cx="1600200" cy="1143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0102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7010280" y="3048120"/>
            <a:ext cx="1600200" cy="1143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0102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5" name=""/>
          <p:cNvSpPr/>
          <p:nvPr/>
        </p:nvSpPr>
        <p:spPr>
          <a:xfrm>
            <a:off x="58672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76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82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5638680" y="83808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2514600"/>
            <a:ext cx="4697280" cy="3297240"/>
            <a:chOff x="457200" y="2514600"/>
            <a:chExt cx="4697280" cy="3297240"/>
          </a:xfrm>
        </p:grpSpPr>
        <p:graphicFrame>
          <p:nvGraphicFramePr>
            <p:cNvPr id="89" name=""/>
            <p:cNvGraphicFramePr/>
            <p:nvPr/>
          </p:nvGraphicFramePr>
          <p:xfrm>
            <a:off x="457200" y="2514600"/>
            <a:ext cx="1268280" cy="1544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133720" y="2514600"/>
            <a:ext cx="1268280" cy="1544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533520" y="4267080"/>
            <a:ext cx="1268280" cy="1544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2133720" y="4267080"/>
            <a:ext cx="1268280" cy="154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3886200" y="4267080"/>
            <a:ext cx="1268280" cy="154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3809880" y="2514600"/>
            <a:ext cx="1268640" cy="154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809880" y="2514600"/>
                      <a:ext cx="126864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133720" y="4267080"/>
          <a:ext cx="126828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181480" y="685800"/>
            <a:ext cx="144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24:35Z</dcterms:created>
  <dc:creator>Veronica</dc:creator>
  <dc:description/>
  <dc:language>en-US</dc:language>
  <cp:lastModifiedBy>Veronica</cp:lastModifiedBy>
  <dcterms:modified xsi:type="dcterms:W3CDTF">2001-02-17T11:58:53Z</dcterms:modified>
  <cp:revision>19</cp:revision>
  <dc:subject/>
  <dc:title>No Slide Title</dc:title>
</cp:coreProperties>
</file>