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A2D5-A458-4BF8-AD5D-0EC94113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7F45-59E3-40F2-9106-E1BBC053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A44E-A47C-44B3-B40D-5C216DC2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A57E-7499-4EB8-9C4D-079F662C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E0A3-18B3-4F6F-85C4-7DA3C13B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10AA-CECC-4AF5-B435-A849DF34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3A80-8F8B-4C2C-90B4-2420467B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FC6D-298A-4F79-B7B9-216E8384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47A-6A40-4FD0-A436-79F45043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AF7-3A29-4FE8-BA53-B190562F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6786-CF4B-4FDF-ACBF-07FDFDC8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A3ED-FD14-40B9-A389-D6B4E808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1B1B-5A1D-444D-8D06-176D0AA7B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More and les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fewer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36576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2057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39625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les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4267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3048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more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3200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4267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34320" y="40384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29718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les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3048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mor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36576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3048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2920" y="4191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1981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22096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fewer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22096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3432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39625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more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34320" y="1981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less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4419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2096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4956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419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276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320040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4320" y="22096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4419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fewer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2057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4267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4114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3200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1905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981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3124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4114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les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3048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less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4419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22096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44956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35812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19920" y="228600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mor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057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4114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2971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1905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981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4191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4191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more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34320" y="1981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more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41911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31240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320040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2:53:30Z</dcterms:created>
  <dc:creator>Mairi Egger</dc:creator>
  <dc:description/>
  <dc:language>en-US</dc:language>
  <cp:lastModifiedBy>Mairi Egger</cp:lastModifiedBy>
  <dcterms:modified xsi:type="dcterms:W3CDTF">2003-03-16T13:06:23Z</dcterms:modified>
  <cp:revision>1</cp:revision>
  <dc:subject/>
  <dc:title>More and less</dc:title>
</cp:coreProperties>
</file>