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CB2-4D65-4AB2-BB00-9DB783C9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38E-0556-49E0-94B5-0700EF46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941-0EAD-4EBF-94D1-ADEB75ED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DCE-E0CF-421A-A1AB-88F6A37F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74A-5CD2-44A1-A1EF-D4CE5EBC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FCE-21EC-43F4-9632-44D84C0A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026-8230-4AFE-A511-71709C8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4D9-3CA5-4B35-826D-45F27303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CBB-C5D3-4DA2-ACF5-7AA41D3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B1B-790D-4119-B785-B4386AE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CF1-131B-4DDA-A3A6-402EC35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D21-2EC3-41DE-80EB-3308D53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E136-3369-4CFD-8496-15D34B5D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343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mo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040240" y="60948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335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enguin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nguin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811640" y="53352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40240" y="45720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4-05T07:10:28Z</dcterms:modified>
  <cp:revision>5</cp:revision>
  <dc:subject/>
  <dc:title>More and less</dc:title>
</cp:coreProperties>
</file>