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E2C-1A9F-484E-8C66-D9721CD4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1D6-A2D6-49B3-B6B1-03B54F1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B92-9B00-4E74-AD3A-4B286A71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5B2-DDB9-4D70-BF93-C8264AE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59F-052B-4973-B6C5-7C092E6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26C-8BC7-457C-9403-2C9AA35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6ED-C2C5-4512-BAA3-88E6802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866-3D0B-4170-B9C5-7412E3CF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458-9D7B-4020-918D-488D8372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8D7-A5CA-405C-A82B-7DAA8FE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D02-0782-4A88-A0B0-7FC7B19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F47-8F39-4A51-A8A5-FC0825B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CEA3-A08D-4109-9996-B732950FD2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7040" y="22824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9Z</dcterms:modified>
  <cp:revision>3</cp:revision>
  <dc:subject/>
  <dc:title>How Much ?</dc:title>
</cp:coreProperties>
</file>