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3C3A-0C68-4C8D-8450-BF00E63CF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0438-55C5-4AFD-8D0E-12132E67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7217-9711-404C-AE2A-01286550F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EB24-F221-40EA-B1BB-BA6DBCB77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312F-FB1B-4435-90BF-B4E03B5D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88DC-3EE5-4740-8119-6CEF4D92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B9F5-6C9F-4C47-8D14-816E9A73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BCC8-AC11-45D6-B6B3-81ED2A47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6DF5-36D2-4FD2-A83B-783860AE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E239-FFF5-4F2E-98AC-1EA8E223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B739-C65E-4B68-AB88-AC1BA61D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B318-957A-4BFC-9FCB-66241280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C8CC-CB99-4CB2-BDF8-A20CF6C4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EBFC-ADDF-4D6F-9EFA-6C9BC6CB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7C84-C657-44D9-92FC-EBDE2347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EE89-5490-4271-8E9B-4EC181EBA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6F93-AEE7-422F-97CC-3403F99B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EBDD-673D-4E84-9E31-FAA632F7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3296-1DF7-4113-AB07-D10DB349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BB06-2E74-4882-A0DA-07D4873C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905D-D4C2-44CD-B853-E6630C38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07B6-BCBF-49BC-8122-482F4160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F2CE-CBBE-44C9-9570-051557A2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D81A-F616-4C3C-9379-2E99EB2C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8808-0622-4B67-8EE6-52466B2C93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E8BA-2CF4-4444-83EA-1627982C7B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762120" y="3352680"/>
            <a:ext cx="761976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3333"/>
                    </a:gs>
                    <a:gs pos="100000">
                      <a:srgbClr val="cce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Maths Bridging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3333"/>
                  </a:gs>
                  <a:gs pos="100000">
                    <a:srgbClr val="ccec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3333"/>
                    </a:gs>
                    <a:gs pos="100000">
                      <a:srgbClr val="cce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3333"/>
                    </a:gs>
                    <a:gs pos="100000">
                      <a:srgbClr val="cce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Uni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3333"/>
                  </a:gs>
                  <a:gs pos="100000">
                    <a:srgbClr val="ccec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2" name="algebra_md_clr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3962520" cy="2311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867280" y="6583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oanne Smithies   Our Lady &amp; St. Gerards RC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80880" y="304920"/>
            <a:ext cx="83822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unction   Machin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2286000"/>
            <a:ext cx="1066680" cy="3886200"/>
          </a:xfrm>
          <a:prstGeom prst="rect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96080" y="2286000"/>
            <a:ext cx="1143000" cy="38862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3352680"/>
            <a:ext cx="1905120" cy="1676520"/>
          </a:xfrm>
          <a:custGeom>
            <a:avLst/>
            <a:gdLst>
              <a:gd name="textAreaLeft" fmla="*/ 197280 w 1905120"/>
              <a:gd name="textAreaRight" fmla="*/ 1707840 w 1905120"/>
              <a:gd name="textAreaTop" fmla="*/ 197280 h 1676520"/>
              <a:gd name="textAreaBottom" fmla="*/ 1479240 h 1676520"/>
            </a:gdLst>
            <a:ahLst/>
            <a:rect l="textAreaLeft" t="textAreaTop" r="textAreaRight" b="textAreaBottom"/>
            <a:pathLst>
              <a:path w="2454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0945" y="21600"/>
                </a:lnTo>
                <a:arcTo wR="3600" hR="3600" stAng="10800000" swAng="5400000"/>
                <a:lnTo>
                  <a:pt x="2454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3809880"/>
            <a:ext cx="761760" cy="685800"/>
          </a:xfrm>
          <a:prstGeom prst="rightArrow">
            <a:avLst>
              <a:gd name="adj1" fmla="val 50000"/>
              <a:gd name="adj2" fmla="val 27769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809880"/>
            <a:ext cx="838080" cy="685800"/>
          </a:xfrm>
          <a:prstGeom prst="rightArrow">
            <a:avLst>
              <a:gd name="adj1" fmla="val 50000"/>
              <a:gd name="adj2" fmla="val 30551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6002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ubway"/>
              </a:rPr>
              <a:t>IN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10280" y="16765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ubway"/>
              </a:rPr>
              <a:t>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438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4114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800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9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5486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5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32004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358128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+9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25146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40384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4724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5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96080" y="5486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0" y="3352680"/>
            <a:ext cx="1905120" cy="1676520"/>
          </a:xfrm>
          <a:custGeom>
            <a:avLst/>
            <a:gdLst>
              <a:gd name="textAreaLeft" fmla="*/ 197280 w 1905120"/>
              <a:gd name="textAreaRight" fmla="*/ 1707840 w 1905120"/>
              <a:gd name="textAreaTop" fmla="*/ 197280 h 1676520"/>
              <a:gd name="textAreaBottom" fmla="*/ 1479240 h 1676520"/>
            </a:gdLst>
            <a:ahLst/>
            <a:rect l="textAreaLeft" t="textAreaTop" r="textAreaRight" b="textAreaBottom"/>
            <a:pathLst>
              <a:path w="2454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0945" y="21600"/>
                </a:lnTo>
                <a:arcTo wR="3600" hR="3600" stAng="10800000" swAng="5400000"/>
                <a:lnTo>
                  <a:pt x="2454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388620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358128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 Alternative"/>
                <a:ea typeface="Arial Alternative"/>
              </a:rPr>
              <a:t></a:t>
            </a: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3200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80880" y="304920"/>
            <a:ext cx="83822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unction   Machin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86000"/>
            <a:ext cx="1066680" cy="3886200"/>
          </a:xfrm>
          <a:prstGeom prst="rect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96080" y="2286000"/>
            <a:ext cx="1143000" cy="38862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3352680"/>
            <a:ext cx="1905120" cy="1676520"/>
          </a:xfrm>
          <a:custGeom>
            <a:avLst/>
            <a:gdLst>
              <a:gd name="textAreaLeft" fmla="*/ 197280 w 1905120"/>
              <a:gd name="textAreaRight" fmla="*/ 1707840 w 1905120"/>
              <a:gd name="textAreaTop" fmla="*/ 197280 h 1676520"/>
              <a:gd name="textAreaBottom" fmla="*/ 1479240 h 1676520"/>
            </a:gdLst>
            <a:ahLst/>
            <a:rect l="textAreaLeft" t="textAreaTop" r="textAreaRight" b="textAreaBottom"/>
            <a:pathLst>
              <a:path w="2454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0945" y="21600"/>
                </a:lnTo>
                <a:arcTo wR="3600" hR="3600" stAng="10800000" swAng="5400000"/>
                <a:lnTo>
                  <a:pt x="2454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3809880"/>
            <a:ext cx="761760" cy="685800"/>
          </a:xfrm>
          <a:prstGeom prst="rightArrow">
            <a:avLst>
              <a:gd name="adj1" fmla="val 50000"/>
              <a:gd name="adj2" fmla="val 27769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3809880"/>
            <a:ext cx="838080" cy="685800"/>
          </a:xfrm>
          <a:prstGeom prst="rightArrow">
            <a:avLst>
              <a:gd name="adj1" fmla="val 50000"/>
              <a:gd name="adj2" fmla="val 30551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600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ubway"/>
              </a:rPr>
              <a:t>IN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16002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ubway"/>
              </a:rPr>
              <a:t>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2438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4114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4800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5486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32004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81480" y="358128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-6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96080" y="25146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0120" y="40384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4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4724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96080" y="5486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3352680"/>
            <a:ext cx="1905120" cy="1676520"/>
          </a:xfrm>
          <a:custGeom>
            <a:avLst/>
            <a:gdLst>
              <a:gd name="textAreaLeft" fmla="*/ 197280 w 1905120"/>
              <a:gd name="textAreaRight" fmla="*/ 1707840 w 1905120"/>
              <a:gd name="textAreaTop" fmla="*/ 197280 h 1676520"/>
              <a:gd name="textAreaBottom" fmla="*/ 1479240 h 1676520"/>
            </a:gdLst>
            <a:ahLst/>
            <a:rect l="textAreaLeft" t="textAreaTop" r="textAreaRight" b="textAreaBottom"/>
            <a:pathLst>
              <a:path w="2454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0945" y="21600"/>
                </a:lnTo>
                <a:arcTo wR="3600" hR="3600" stAng="10800000" swAng="5400000"/>
                <a:lnTo>
                  <a:pt x="2454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388620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358128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x3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72400" y="3200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0880" y="304920"/>
            <a:ext cx="83822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unction   Machin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286000"/>
            <a:ext cx="1066680" cy="3886200"/>
          </a:xfrm>
          <a:prstGeom prst="rect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96080" y="2286000"/>
            <a:ext cx="1143000" cy="38862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3352680"/>
            <a:ext cx="1905120" cy="1676520"/>
          </a:xfrm>
          <a:custGeom>
            <a:avLst/>
            <a:gdLst>
              <a:gd name="textAreaLeft" fmla="*/ 197280 w 1905120"/>
              <a:gd name="textAreaRight" fmla="*/ 1707840 w 1905120"/>
              <a:gd name="textAreaTop" fmla="*/ 197280 h 1676520"/>
              <a:gd name="textAreaBottom" fmla="*/ 1479240 h 1676520"/>
            </a:gdLst>
            <a:ahLst/>
            <a:rect l="textAreaLeft" t="textAreaTop" r="textAreaRight" b="textAreaBottom"/>
            <a:pathLst>
              <a:path w="2454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0945" y="21600"/>
                </a:lnTo>
                <a:arcTo wR="3600" hR="3600" stAng="10800000" swAng="5400000"/>
                <a:lnTo>
                  <a:pt x="2454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91120" y="3809880"/>
            <a:ext cx="761760" cy="685800"/>
          </a:xfrm>
          <a:prstGeom prst="rightArrow">
            <a:avLst>
              <a:gd name="adj1" fmla="val 50000"/>
              <a:gd name="adj2" fmla="val 27769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0" y="3809880"/>
            <a:ext cx="838080" cy="685800"/>
          </a:xfrm>
          <a:prstGeom prst="rightArrow">
            <a:avLst>
              <a:gd name="adj1" fmla="val 50000"/>
              <a:gd name="adj2" fmla="val 30551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6002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ubway"/>
              </a:rPr>
              <a:t>IN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1676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ubway"/>
              </a:rPr>
              <a:t>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2438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4114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6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4800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5486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32004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358128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+6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25146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96080" y="40384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6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0120" y="4724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96080" y="5486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0" y="3352680"/>
            <a:ext cx="1905120" cy="1676520"/>
          </a:xfrm>
          <a:custGeom>
            <a:avLst/>
            <a:gdLst>
              <a:gd name="textAreaLeft" fmla="*/ 197280 w 1905120"/>
              <a:gd name="textAreaRight" fmla="*/ 1707840 w 1905120"/>
              <a:gd name="textAreaTop" fmla="*/ 197280 h 1676520"/>
              <a:gd name="textAreaBottom" fmla="*/ 1479240 h 1676520"/>
            </a:gdLst>
            <a:ahLst/>
            <a:rect l="textAreaLeft" t="textAreaTop" r="textAreaRight" b="textAreaBottom"/>
            <a:pathLst>
              <a:path w="2454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0945" y="21600"/>
                </a:lnTo>
                <a:arcTo wR="3600" hR="3600" stAng="10800000" swAng="5400000"/>
                <a:lnTo>
                  <a:pt x="2454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388620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358128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-3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3200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0880" y="304920"/>
            <a:ext cx="83822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unction   Machin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2286000"/>
            <a:ext cx="1066680" cy="3886200"/>
          </a:xfrm>
          <a:prstGeom prst="rect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96080" y="2286000"/>
            <a:ext cx="1143000" cy="38862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3352680"/>
            <a:ext cx="1905120" cy="1676520"/>
          </a:xfrm>
          <a:custGeom>
            <a:avLst/>
            <a:gdLst>
              <a:gd name="textAreaLeft" fmla="*/ 197280 w 1905120"/>
              <a:gd name="textAreaRight" fmla="*/ 1707840 w 1905120"/>
              <a:gd name="textAreaTop" fmla="*/ 197280 h 1676520"/>
              <a:gd name="textAreaBottom" fmla="*/ 1479240 h 1676520"/>
            </a:gdLst>
            <a:ahLst/>
            <a:rect l="textAreaLeft" t="textAreaTop" r="textAreaRight" b="textAreaBottom"/>
            <a:pathLst>
              <a:path w="2454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0945" y="21600"/>
                </a:lnTo>
                <a:arcTo wR="3600" hR="3600" stAng="10800000" swAng="5400000"/>
                <a:lnTo>
                  <a:pt x="2454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91120" y="3809880"/>
            <a:ext cx="761760" cy="685800"/>
          </a:xfrm>
          <a:prstGeom prst="rightArrow">
            <a:avLst>
              <a:gd name="adj1" fmla="val 50000"/>
              <a:gd name="adj2" fmla="val 27769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3809880"/>
            <a:ext cx="838080" cy="685800"/>
          </a:xfrm>
          <a:prstGeom prst="rightArrow">
            <a:avLst>
              <a:gd name="adj1" fmla="val 50000"/>
              <a:gd name="adj2" fmla="val 30551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1600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ubway"/>
              </a:rPr>
              <a:t>IN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53080" y="16765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ubway"/>
              </a:rPr>
              <a:t>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2438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4114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4800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86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32004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358128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x4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96080" y="25146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8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96080" y="40384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8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0120" y="4724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5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96080" y="5486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3352680"/>
            <a:ext cx="1905120" cy="1676520"/>
          </a:xfrm>
          <a:custGeom>
            <a:avLst/>
            <a:gdLst>
              <a:gd name="textAreaLeft" fmla="*/ 197280 w 1905120"/>
              <a:gd name="textAreaRight" fmla="*/ 1707840 w 1905120"/>
              <a:gd name="textAreaTop" fmla="*/ 197280 h 1676520"/>
              <a:gd name="textAreaBottom" fmla="*/ 1479240 h 1676520"/>
            </a:gdLst>
            <a:ahLst/>
            <a:rect l="textAreaLeft" t="textAreaTop" r="textAreaRight" b="textAreaBottom"/>
            <a:pathLst>
              <a:path w="2454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0945" y="21600"/>
                </a:lnTo>
                <a:arcTo wR="3600" hR="3600" stAng="10800000" swAng="5400000"/>
                <a:lnTo>
                  <a:pt x="2454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71600" y="388620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38280" y="358128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x2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72400" y="3200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80880" y="304920"/>
            <a:ext cx="83822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unction   Machin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2286000"/>
            <a:ext cx="1066680" cy="3886200"/>
          </a:xfrm>
          <a:prstGeom prst="rect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96080" y="2286000"/>
            <a:ext cx="1143000" cy="38862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352680"/>
            <a:ext cx="1905120" cy="1676520"/>
          </a:xfrm>
          <a:custGeom>
            <a:avLst/>
            <a:gdLst>
              <a:gd name="textAreaLeft" fmla="*/ 197280 w 1905120"/>
              <a:gd name="textAreaRight" fmla="*/ 1707840 w 1905120"/>
              <a:gd name="textAreaTop" fmla="*/ 197280 h 1676520"/>
              <a:gd name="textAreaBottom" fmla="*/ 1479240 h 1676520"/>
            </a:gdLst>
            <a:ahLst/>
            <a:rect l="textAreaLeft" t="textAreaTop" r="textAreaRight" b="textAreaBottom"/>
            <a:pathLst>
              <a:path w="2454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0945" y="21600"/>
                </a:lnTo>
                <a:arcTo wR="3600" hR="3600" stAng="10800000" swAng="5400000"/>
                <a:lnTo>
                  <a:pt x="2454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91120" y="3809880"/>
            <a:ext cx="761760" cy="685800"/>
          </a:xfrm>
          <a:prstGeom prst="rightArrow">
            <a:avLst>
              <a:gd name="adj1" fmla="val 50000"/>
              <a:gd name="adj2" fmla="val 27769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0" y="3809880"/>
            <a:ext cx="838080" cy="685800"/>
          </a:xfrm>
          <a:prstGeom prst="rightArrow">
            <a:avLst>
              <a:gd name="adj1" fmla="val 50000"/>
              <a:gd name="adj2" fmla="val 30551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6002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ubway"/>
              </a:rPr>
              <a:t>IN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86600" y="1600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ubway"/>
              </a:rPr>
              <a:t>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2438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4114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4800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9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5486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5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32004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81480" y="358128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+9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25146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96080" y="40384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0120" y="4724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9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96080" y="5486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5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3352680"/>
            <a:ext cx="1905120" cy="1676520"/>
          </a:xfrm>
          <a:custGeom>
            <a:avLst/>
            <a:gdLst>
              <a:gd name="textAreaLeft" fmla="*/ 197280 w 1905120"/>
              <a:gd name="textAreaRight" fmla="*/ 1707840 w 1905120"/>
              <a:gd name="textAreaTop" fmla="*/ 197280 h 1676520"/>
              <a:gd name="textAreaBottom" fmla="*/ 1479240 h 1676520"/>
            </a:gdLst>
            <a:ahLst/>
            <a:rect l="textAreaLeft" t="textAreaTop" r="textAreaRight" b="textAreaBottom"/>
            <a:pathLst>
              <a:path w="2454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0945" y="21600"/>
                </a:lnTo>
                <a:arcTo wR="3600" hR="3600" stAng="10800000" swAng="5400000"/>
                <a:lnTo>
                  <a:pt x="2454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388620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358128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-9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772400" y="3200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19:36:30Z</dcterms:created>
  <dc:creator>Joanne  Smithies</dc:creator>
  <dc:description/>
  <dc:language>en-US</dc:language>
  <cp:lastModifiedBy>Joanne  Smithies</cp:lastModifiedBy>
  <dcterms:modified xsi:type="dcterms:W3CDTF">2002-09-08T18:27:07Z</dcterms:modified>
  <cp:revision>14</cp:revision>
  <dc:subject/>
  <dc:title>PowerPoint Presentation</dc:title>
</cp:coreProperties>
</file>