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764-4113-45DD-8D9A-9E16FB9F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889-94FE-48C3-8543-28AC2995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471-358F-4EE1-9599-870DFE6A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580D-3C1F-4A13-80A9-8DDD3C66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F8D-B11E-4E34-817F-AE649483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E010-F484-45F1-BD16-B5F70365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00F3-39CF-4F3D-9447-9500D330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0A5-E5F9-486A-93B0-BB6642B1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F1E-106C-4A5F-AEA9-30D85B67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ADD-DA39-4D2B-9C18-73C9A7A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E44-A821-4CBC-A254-F6B63FA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D099-21B5-4B68-8D3E-6B8D2559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9E1B-993F-4FD0-AF00-44FBE6D68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3581280"/>
            <a:ext cx="76197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aths Bridg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33"/>
                  </a:gs>
                  <a:gs pos="100000">
                    <a:srgbClr val="b2b2b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i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33"/>
                  </a:gs>
                  <a:gs pos="100000">
                    <a:srgbClr val="b2b2b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algebra_md_clr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3962160" cy="2311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867280" y="6583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anne Smithies   Our Lady &amp; St. Gerards R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3124080"/>
            <a:ext cx="2514600" cy="1828800"/>
          </a:xfrm>
          <a:custGeom>
            <a:avLst/>
            <a:gdLst>
              <a:gd name="textAreaLeft" fmla="*/ 215280 w 2514600"/>
              <a:gd name="textAreaRight" fmla="*/ 2299320 w 2514600"/>
              <a:gd name="textAreaTop" fmla="*/ 215280 h 1828800"/>
              <a:gd name="textAreaBottom" fmla="*/ 1613520 h 1828800"/>
            </a:gdLst>
            <a:ahLst/>
            <a:rect l="textAreaLeft" t="textAreaTop" r="textAreaRight" b="textAreaBottom"/>
            <a:pathLst>
              <a:path w="296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8" y="21600"/>
                </a:lnTo>
                <a:arcTo wR="3600" hR="3600" stAng="10800000" swAng="5400000"/>
                <a:lnTo>
                  <a:pt x="2969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37339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37339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4290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+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4038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124080"/>
            <a:ext cx="2514600" cy="1828800"/>
          </a:xfrm>
          <a:custGeom>
            <a:avLst/>
            <a:gdLst>
              <a:gd name="textAreaLeft" fmla="*/ 215280 w 2514600"/>
              <a:gd name="textAreaRight" fmla="*/ 2299320 w 2514600"/>
              <a:gd name="textAreaTop" fmla="*/ 215280 h 1828800"/>
              <a:gd name="textAreaBottom" fmla="*/ 1613520 h 1828800"/>
            </a:gdLst>
            <a:ahLst/>
            <a:rect l="textAreaLeft" t="textAreaTop" r="textAreaRight" b="textAreaBottom"/>
            <a:pathLst>
              <a:path w="296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8" y="21600"/>
                </a:lnTo>
                <a:arcTo wR="3600" hR="3600" stAng="10800000" swAng="5400000"/>
                <a:lnTo>
                  <a:pt x="2969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37339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37339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34290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x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4038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124080"/>
            <a:ext cx="2514600" cy="1828800"/>
          </a:xfrm>
          <a:custGeom>
            <a:avLst/>
            <a:gdLst>
              <a:gd name="textAreaLeft" fmla="*/ 215280 w 2514600"/>
              <a:gd name="textAreaRight" fmla="*/ 2299320 w 2514600"/>
              <a:gd name="textAreaTop" fmla="*/ 215280 h 1828800"/>
              <a:gd name="textAreaBottom" fmla="*/ 1613520 h 1828800"/>
            </a:gdLst>
            <a:ahLst/>
            <a:rect l="textAreaLeft" t="textAreaTop" r="textAreaRight" b="textAreaBottom"/>
            <a:pathLst>
              <a:path w="296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8" y="21600"/>
                </a:lnTo>
                <a:arcTo wR="3600" hR="3600" stAng="10800000" swAng="5400000"/>
                <a:lnTo>
                  <a:pt x="2969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7339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37339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14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7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5053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-7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4038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7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124080"/>
            <a:ext cx="2514600" cy="1828800"/>
          </a:xfrm>
          <a:custGeom>
            <a:avLst/>
            <a:gdLst>
              <a:gd name="textAreaLeft" fmla="*/ 215280 w 2514600"/>
              <a:gd name="textAreaRight" fmla="*/ 2299320 w 2514600"/>
              <a:gd name="textAreaTop" fmla="*/ 215280 h 1828800"/>
              <a:gd name="textAreaBottom" fmla="*/ 1613520 h 1828800"/>
            </a:gdLst>
            <a:ahLst/>
            <a:rect l="textAreaLeft" t="textAreaTop" r="textAreaRight" b="textAreaBottom"/>
            <a:pathLst>
              <a:path w="296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8" y="21600"/>
                </a:lnTo>
                <a:arcTo wR="3600" hR="3600" stAng="10800000" swAng="5400000"/>
                <a:lnTo>
                  <a:pt x="2969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7339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37339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34290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÷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4038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9:36:30Z</dcterms:created>
  <dc:creator>Joanne  Smithies</dc:creator>
  <dc:description/>
  <dc:language>en-US</dc:language>
  <cp:lastModifiedBy>Joanne  Smithies</cp:lastModifiedBy>
  <dcterms:modified xsi:type="dcterms:W3CDTF">2002-09-08T18:27:15Z</dcterms:modified>
  <cp:revision>6</cp:revision>
  <dc:subject/>
  <dc:title>PowerPoint Presentation</dc:title>
</cp:coreProperties>
</file>