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1A45-51B0-4476-A150-F0FFBCDDC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unting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loops back to the first working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troduction as a whole class activity children can use this presentation individually for further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Read the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unt how many things are in the group that appears next and link to the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As further pictures appear count on from the number that has been re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Check your answer with the one tha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Re-read the complete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Show same sum on fingers (if answer is less than 10!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DEB-C88D-44DD-979B-ABA61ED0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BB1-4769-47B7-B630-464D7777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A37-B844-4526-9223-9620ADDB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8C0-F606-4DBD-9F89-ADA30E2F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B26-8984-46E5-996C-5AC61740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8F6-80EF-42EC-8A2A-EA5E5392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4AB-D060-438F-9BE6-CEA28B23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1D8-0F33-4834-9422-0286E785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78E-5B7F-418F-A33C-10AC462D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DAA-47AB-4308-B189-93164D0D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95F-1255-44D0-BDF8-0FC779FF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ACB-8EC4-4C1A-9710-66E7D1F5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2837-5668-4647-8974-1F6A4596F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.wmf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unting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266652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d by Veronica Carter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das Y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pavilion.co.uk/camelsdal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33720" y="838080"/>
            <a:ext cx="4190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 +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762120"/>
            <a:ext cx="2133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3520" y="2590920"/>
            <a:ext cx="1965240" cy="3657600"/>
            <a:chOff x="533520" y="2590920"/>
            <a:chExt cx="1965240" cy="3657600"/>
          </a:xfrm>
        </p:grpSpPr>
        <p:graphicFrame>
          <p:nvGraphicFramePr>
            <p:cNvPr id="204" name=""/>
            <p:cNvGraphicFramePr/>
            <p:nvPr/>
          </p:nvGraphicFramePr>
          <p:xfrm>
            <a:off x="533520" y="2590920"/>
            <a:ext cx="441360" cy="16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590920"/>
                      <a:ext cx="44136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6" name=""/>
            <p:cNvGraphicFramePr/>
            <p:nvPr/>
          </p:nvGraphicFramePr>
          <p:xfrm>
            <a:off x="1295280" y="2590920"/>
            <a:ext cx="441360" cy="167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2590920"/>
                      <a:ext cx="44136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"/>
            <p:cNvGraphicFramePr/>
            <p:nvPr/>
          </p:nvGraphicFramePr>
          <p:xfrm>
            <a:off x="2057400" y="2590920"/>
            <a:ext cx="441360" cy="167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2590920"/>
                      <a:ext cx="44136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"/>
            <p:cNvGraphicFramePr/>
            <p:nvPr/>
          </p:nvGraphicFramePr>
          <p:xfrm>
            <a:off x="533520" y="4572000"/>
            <a:ext cx="441360" cy="167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520" y="4572000"/>
                      <a:ext cx="44136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1295280" y="4572000"/>
            <a:ext cx="441360" cy="1676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95280" y="4572000"/>
                      <a:ext cx="44136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2057400" y="4572000"/>
            <a:ext cx="441360" cy="1676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4572000"/>
                      <a:ext cx="44136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6" name=""/>
          <p:cNvGraphicFramePr/>
          <p:nvPr/>
        </p:nvGraphicFramePr>
        <p:xfrm>
          <a:off x="4419720" y="4648320"/>
          <a:ext cx="441360" cy="1676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46483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105520" y="4648320"/>
          <a:ext cx="441360" cy="167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5520" y="46483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419720" y="2590920"/>
          <a:ext cx="441360" cy="1676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5909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5105520" y="2590920"/>
          <a:ext cx="441360" cy="167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05520" y="2590920"/>
                    <a:ext cx="4413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524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 +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762120"/>
            <a:ext cx="2895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28600" y="2590920"/>
            <a:ext cx="3095640" cy="3254400"/>
            <a:chOff x="228600" y="2590920"/>
            <a:chExt cx="3095640" cy="3254400"/>
          </a:xfrm>
        </p:grpSpPr>
        <p:graphicFrame>
          <p:nvGraphicFramePr>
            <p:cNvPr id="227" name=""/>
            <p:cNvGraphicFramePr/>
            <p:nvPr/>
          </p:nvGraphicFramePr>
          <p:xfrm>
            <a:off x="1295280" y="2590920"/>
            <a:ext cx="962280" cy="968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590920"/>
                      <a:ext cx="96228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"/>
            <p:cNvGraphicFramePr/>
            <p:nvPr/>
          </p:nvGraphicFramePr>
          <p:xfrm>
            <a:off x="2362320" y="2590920"/>
            <a:ext cx="961920" cy="96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2320" y="2590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1" name=""/>
            <p:cNvGraphicFramePr/>
            <p:nvPr/>
          </p:nvGraphicFramePr>
          <p:xfrm>
            <a:off x="228600" y="2590920"/>
            <a:ext cx="961920" cy="968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2590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3" name=""/>
            <p:cNvGraphicFramePr/>
            <p:nvPr/>
          </p:nvGraphicFramePr>
          <p:xfrm>
            <a:off x="2362320" y="3733920"/>
            <a:ext cx="961920" cy="968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62320" y="3733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5" name=""/>
            <p:cNvGraphicFramePr/>
            <p:nvPr/>
          </p:nvGraphicFramePr>
          <p:xfrm>
            <a:off x="1295280" y="3733920"/>
            <a:ext cx="962280" cy="968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95280" y="3733920"/>
                      <a:ext cx="96228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"/>
            <p:cNvGraphicFramePr/>
            <p:nvPr/>
          </p:nvGraphicFramePr>
          <p:xfrm>
            <a:off x="228600" y="3733920"/>
            <a:ext cx="961920" cy="968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600" y="3733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9" name=""/>
            <p:cNvGraphicFramePr/>
            <p:nvPr/>
          </p:nvGraphicFramePr>
          <p:xfrm>
            <a:off x="1295280" y="4876920"/>
            <a:ext cx="962280" cy="968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95280" y="4876920"/>
                      <a:ext cx="96228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"/>
            <p:cNvGraphicFramePr/>
            <p:nvPr/>
          </p:nvGraphicFramePr>
          <p:xfrm>
            <a:off x="228600" y="4876920"/>
            <a:ext cx="961920" cy="968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8600" y="4876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"/>
            <p:cNvGraphicFramePr/>
            <p:nvPr/>
          </p:nvGraphicFramePr>
          <p:xfrm>
            <a:off x="2362320" y="4876920"/>
            <a:ext cx="961920" cy="968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362320" y="4876920"/>
                      <a:ext cx="961920" cy="9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5" name=""/>
          <p:cNvGraphicFramePr/>
          <p:nvPr/>
        </p:nvGraphicFramePr>
        <p:xfrm>
          <a:off x="3886200" y="4876920"/>
          <a:ext cx="961920" cy="96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6200" y="4876920"/>
                    <a:ext cx="961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886200" y="3733920"/>
          <a:ext cx="961920" cy="968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86200" y="3733920"/>
                    <a:ext cx="961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886200" y="2590920"/>
          <a:ext cx="961920" cy="968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86200" y="2590920"/>
                    <a:ext cx="961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838080"/>
            <a:ext cx="6629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 +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914400"/>
            <a:ext cx="990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3200400"/>
            <a:ext cx="2503440" cy="2162160"/>
            <a:chOff x="457200" y="3200400"/>
            <a:chExt cx="2503440" cy="2162160"/>
          </a:xfrm>
        </p:grpSpPr>
        <p:graphicFrame>
          <p:nvGraphicFramePr>
            <p:cNvPr id="53" name=""/>
            <p:cNvGraphicFramePr/>
            <p:nvPr/>
          </p:nvGraphicFramePr>
          <p:xfrm>
            <a:off x="533520" y="3200400"/>
            <a:ext cx="1055520" cy="56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2004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"/>
            <p:cNvGraphicFramePr/>
            <p:nvPr/>
          </p:nvGraphicFramePr>
          <p:xfrm>
            <a:off x="1066680" y="4038480"/>
            <a:ext cx="1055880" cy="561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4038480"/>
                      <a:ext cx="10558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" name=""/>
            <p:cNvGraphicFramePr/>
            <p:nvPr/>
          </p:nvGraphicFramePr>
          <p:xfrm>
            <a:off x="457200" y="4800600"/>
            <a:ext cx="1055520" cy="56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48006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"/>
            <p:cNvGraphicFramePr/>
            <p:nvPr/>
          </p:nvGraphicFramePr>
          <p:xfrm>
            <a:off x="1905120" y="4800600"/>
            <a:ext cx="1055520" cy="561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05120" y="48006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1828800" y="3200400"/>
            <a:ext cx="1055520" cy="56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3200400"/>
                      <a:ext cx="10555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3" name=""/>
          <p:cNvGraphicFramePr/>
          <p:nvPr/>
        </p:nvGraphicFramePr>
        <p:xfrm>
          <a:off x="3809880" y="4114800"/>
          <a:ext cx="105588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4114800"/>
                    <a:ext cx="1055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 rot="10800000">
          <a:off x="3809880" y="3276360"/>
          <a:ext cx="105588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rot="10800000">
                    <a:off x="3809880" y="3276360"/>
                    <a:ext cx="1055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05120" y="990720"/>
            <a:ext cx="5105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 + 1 =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91440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04920" y="3429000"/>
            <a:ext cx="2816280" cy="2416320"/>
            <a:chOff x="304920" y="3429000"/>
            <a:chExt cx="2816280" cy="2416320"/>
          </a:xfrm>
        </p:grpSpPr>
        <p:graphicFrame>
          <p:nvGraphicFramePr>
            <p:cNvPr id="70" name=""/>
            <p:cNvGraphicFramePr/>
            <p:nvPr/>
          </p:nvGraphicFramePr>
          <p:xfrm>
            <a:off x="304920" y="3429000"/>
            <a:ext cx="911160" cy="73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42900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80880" y="4191120"/>
            <a:ext cx="911520" cy="73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19112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457200" y="5029200"/>
            <a:ext cx="91116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502920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1371600" y="4496040"/>
            <a:ext cx="91116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449604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1295280" y="3733920"/>
            <a:ext cx="911520" cy="73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295280" y="373392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2209680" y="4343400"/>
            <a:ext cx="911520" cy="739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09680" y="434340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2209680" y="5105520"/>
            <a:ext cx="911520" cy="739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09680" y="5105520"/>
                      <a:ext cx="9115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2057400" y="3505320"/>
            <a:ext cx="911160" cy="739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057400" y="3505320"/>
                      <a:ext cx="9111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6" name=""/>
          <p:cNvGraphicFramePr/>
          <p:nvPr/>
        </p:nvGraphicFramePr>
        <p:xfrm>
          <a:off x="3962520" y="3657600"/>
          <a:ext cx="911160" cy="739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62520" y="3657600"/>
                    <a:ext cx="9111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914400"/>
            <a:ext cx="4114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5 + 3 =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914400"/>
            <a:ext cx="533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447920" y="2819520"/>
            <a:ext cx="1371600" cy="2998800"/>
            <a:chOff x="1447920" y="2819520"/>
            <a:chExt cx="1371600" cy="2998800"/>
          </a:xfrm>
        </p:grpSpPr>
        <p:graphicFrame>
          <p:nvGraphicFramePr>
            <p:cNvPr id="91" name=""/>
            <p:cNvGraphicFramePr/>
            <p:nvPr/>
          </p:nvGraphicFramePr>
          <p:xfrm>
            <a:off x="1523880" y="2819520"/>
            <a:ext cx="129564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2819520"/>
                      <a:ext cx="129564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1523880" y="3505320"/>
            <a:ext cx="1295640" cy="40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3880" y="3505320"/>
                      <a:ext cx="129564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1523880" y="4114800"/>
            <a:ext cx="1295640" cy="407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4114800"/>
                      <a:ext cx="129564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1523880" y="4724280"/>
            <a:ext cx="1295640" cy="408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3880" y="4724280"/>
                      <a:ext cx="129564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1447920" y="5410080"/>
            <a:ext cx="1295280" cy="408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47920" y="5410080"/>
                      <a:ext cx="1295280" cy="40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1" name=""/>
          <p:cNvGraphicFramePr/>
          <p:nvPr/>
        </p:nvGraphicFramePr>
        <p:xfrm>
          <a:off x="4114800" y="4191120"/>
          <a:ext cx="129528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4191120"/>
                    <a:ext cx="1295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114800" y="3581280"/>
          <a:ext cx="1295280" cy="40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3581280"/>
                    <a:ext cx="12952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114800" y="3048120"/>
          <a:ext cx="1295280" cy="40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048120"/>
                    <a:ext cx="1295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0200" y="99072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4 +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990720"/>
            <a:ext cx="2590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85800" y="2971800"/>
            <a:ext cx="1600200" cy="3666960"/>
            <a:chOff x="685800" y="2971800"/>
            <a:chExt cx="1600200" cy="3666960"/>
          </a:xfrm>
        </p:grpSpPr>
        <p:graphicFrame>
          <p:nvGraphicFramePr>
            <p:cNvPr id="110" name=""/>
            <p:cNvGraphicFramePr/>
            <p:nvPr/>
          </p:nvGraphicFramePr>
          <p:xfrm>
            <a:off x="762120" y="2971800"/>
            <a:ext cx="1523880" cy="100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97180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762120" y="3809880"/>
            <a:ext cx="1523880" cy="100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380988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685800" y="4648320"/>
            <a:ext cx="1523880" cy="1000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464832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762120" y="5638680"/>
            <a:ext cx="15238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120" y="5638680"/>
                      <a:ext cx="15238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8" name=""/>
          <p:cNvGraphicFramePr/>
          <p:nvPr/>
        </p:nvGraphicFramePr>
        <p:xfrm>
          <a:off x="3352680" y="4191120"/>
          <a:ext cx="1524240" cy="100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4191120"/>
                    <a:ext cx="1524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352680" y="3124080"/>
          <a:ext cx="1524240" cy="100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3124080"/>
                    <a:ext cx="1524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5248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 +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914400"/>
            <a:ext cx="2590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38080" y="2971800"/>
            <a:ext cx="2210040" cy="3389400"/>
            <a:chOff x="838080" y="2971800"/>
            <a:chExt cx="2210040" cy="33894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838080" y="29718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838080" y="36576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838080" y="43434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838080" y="510552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>
              <a:off x="1447920" y="5791320"/>
              <a:ext cx="990360" cy="5698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0" name=""/>
            <p:cNvGraphicFramePr/>
            <p:nvPr/>
          </p:nvGraphicFramePr>
          <p:xfrm>
            <a:off x="2057400" y="5105520"/>
            <a:ext cx="990720" cy="569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5105520"/>
                      <a:ext cx="99072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2" name="" descr=""/>
            <p:cNvPicPr/>
            <p:nvPr/>
          </p:nvPicPr>
          <p:blipFill>
            <a:blip r:embed="rId8"/>
            <a:stretch/>
          </p:blipFill>
          <p:spPr>
            <a:xfrm>
              <a:off x="2057400" y="43434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9"/>
            <a:stretch/>
          </p:blipFill>
          <p:spPr>
            <a:xfrm>
              <a:off x="2057400" y="3657600"/>
              <a:ext cx="9907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2057400" y="2971800"/>
              <a:ext cx="990720" cy="5698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35" name=""/>
          <p:cNvGraphicFramePr/>
          <p:nvPr/>
        </p:nvGraphicFramePr>
        <p:xfrm>
          <a:off x="4038480" y="4648320"/>
          <a:ext cx="990720" cy="569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4648320"/>
                    <a:ext cx="990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038480" y="3733920"/>
          <a:ext cx="990720" cy="5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8480" y="3733920"/>
                    <a:ext cx="990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914400"/>
            <a:ext cx="487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6 +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838080"/>
            <a:ext cx="1524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3048120"/>
            <a:ext cx="2743200" cy="3500280"/>
            <a:chOff x="0" y="3048120"/>
            <a:chExt cx="2743200" cy="3500280"/>
          </a:xfrm>
        </p:grpSpPr>
        <p:graphicFrame>
          <p:nvGraphicFramePr>
            <p:cNvPr id="142" name=""/>
            <p:cNvGraphicFramePr/>
            <p:nvPr/>
          </p:nvGraphicFramePr>
          <p:xfrm>
            <a:off x="0" y="3048120"/>
            <a:ext cx="1371600" cy="113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048120"/>
                      <a:ext cx="1371600" cy="113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1371600" y="3048120"/>
              <a:ext cx="1371600" cy="11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0" y="4267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1371600" y="4267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0" y="5410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7"/>
            <a:stretch/>
          </p:blipFill>
          <p:spPr>
            <a:xfrm>
              <a:off x="1371600" y="5410080"/>
              <a:ext cx="1371600" cy="1138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9" name=""/>
          <p:cNvGraphicFramePr/>
          <p:nvPr/>
        </p:nvGraphicFramePr>
        <p:xfrm>
          <a:off x="4114800" y="5410080"/>
          <a:ext cx="1371600" cy="113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14800" y="54100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038480" y="4267080"/>
          <a:ext cx="1371600" cy="113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38480" y="42670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038480" y="3124080"/>
          <a:ext cx="1371600" cy="1138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38480" y="31240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05120" y="762120"/>
            <a:ext cx="5181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8 +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685800"/>
            <a:ext cx="2209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191120" y="5562720"/>
          <a:ext cx="10555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5562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191120" y="4419720"/>
          <a:ext cx="105552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419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191120" y="3276720"/>
          <a:ext cx="105552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276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114800" y="2133720"/>
          <a:ext cx="105552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133720"/>
                    <a:ext cx="1055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85800" y="2133720"/>
            <a:ext cx="2274840" cy="4495680"/>
            <a:chOff x="685800" y="2133720"/>
            <a:chExt cx="2274840" cy="4495680"/>
          </a:xfrm>
        </p:grpSpPr>
        <p:graphicFrame>
          <p:nvGraphicFramePr>
            <p:cNvPr id="166" name=""/>
            <p:cNvGraphicFramePr/>
            <p:nvPr/>
          </p:nvGraphicFramePr>
          <p:xfrm>
            <a:off x="1828800" y="2133720"/>
            <a:ext cx="1055520" cy="1066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2133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685800" y="3276720"/>
            <a:ext cx="1055520" cy="1066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" y="3276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"/>
            <p:cNvGraphicFramePr/>
            <p:nvPr/>
          </p:nvGraphicFramePr>
          <p:xfrm>
            <a:off x="1828800" y="3276720"/>
            <a:ext cx="1055520" cy="1066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828800" y="3276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685800" y="4419720"/>
            <a:ext cx="1055520" cy="1066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5800" y="4419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1828800" y="4419720"/>
            <a:ext cx="1055520" cy="1066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828800" y="4419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685800" y="5562720"/>
            <a:ext cx="1055520" cy="1066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85800" y="5562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"/>
            <p:cNvGraphicFramePr/>
            <p:nvPr/>
          </p:nvGraphicFramePr>
          <p:xfrm>
            <a:off x="1905120" y="5562720"/>
            <a:ext cx="1055520" cy="10666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905120" y="5562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685800" y="2133720"/>
            <a:ext cx="1055520" cy="1066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85800" y="2133720"/>
                      <a:ext cx="1055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81080" y="914400"/>
            <a:ext cx="4114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7 +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91440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4920" y="2666880"/>
            <a:ext cx="2666880" cy="3897360"/>
            <a:chOff x="304920" y="2666880"/>
            <a:chExt cx="2666880" cy="389736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304920" y="266688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1752480" y="266688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3"/>
            <a:stretch/>
          </p:blipFill>
          <p:spPr>
            <a:xfrm>
              <a:off x="1828800" y="365760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4"/>
            <a:stretch/>
          </p:blipFill>
          <p:spPr>
            <a:xfrm>
              <a:off x="304920" y="365760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5"/>
            <a:stretch/>
          </p:blipFill>
          <p:spPr>
            <a:xfrm>
              <a:off x="1828800" y="4648320"/>
              <a:ext cx="1143000" cy="925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0" name=""/>
            <p:cNvGraphicFramePr/>
            <p:nvPr/>
          </p:nvGraphicFramePr>
          <p:xfrm>
            <a:off x="1143000" y="5638680"/>
            <a:ext cx="1143000" cy="925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638680"/>
                      <a:ext cx="1143000" cy="92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2" name="" descr=""/>
            <p:cNvPicPr/>
            <p:nvPr/>
          </p:nvPicPr>
          <p:blipFill>
            <a:blip r:embed="rId8"/>
            <a:stretch/>
          </p:blipFill>
          <p:spPr>
            <a:xfrm>
              <a:off x="380880" y="4648320"/>
              <a:ext cx="1143000" cy="9255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93" name=""/>
          <p:cNvGraphicFramePr/>
          <p:nvPr/>
        </p:nvGraphicFramePr>
        <p:xfrm>
          <a:off x="4038480" y="5715000"/>
          <a:ext cx="1143000" cy="92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571500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038480" y="4724280"/>
          <a:ext cx="1143000" cy="92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472428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962520" y="3733920"/>
          <a:ext cx="1143000" cy="92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2520" y="373392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2819520"/>
          <a:ext cx="1143000" cy="92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2819520"/>
                    <a:ext cx="1143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19:48:12Z</dcterms:created>
  <dc:creator>Veronica</dc:creator>
  <dc:description/>
  <dc:language>en-US</dc:language>
  <cp:lastModifiedBy>Veronica</cp:lastModifiedBy>
  <dcterms:modified xsi:type="dcterms:W3CDTF">2001-02-17T11:32:53Z</dcterms:modified>
  <cp:revision>20</cp:revision>
  <dc:subject/>
  <dc:title>No Slide Title</dc:title>
</cp:coreProperties>
</file>