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7CB-F225-4639-ABAC-B4C213CD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324-C09A-4D43-80A7-6F022613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E4C-4B51-4A25-87D0-F2B55205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56A-D9E4-434B-A0F3-A779FE6C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335D-B9A0-4678-875B-BA7E40DA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B653-81BB-4F28-9848-569A886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EDD1-1B5E-402C-A624-08A32EA8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8056-2BF3-45DE-BFE3-EC3DDE6F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86E5-4988-48F6-8540-EB5AA1B5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E754-0E8C-4CE0-938E-75757935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25BA-36E7-4EA0-BA32-0FAD0762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334-75AF-44FE-9F80-4B13ACDD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D590-86A4-4EB5-9EF3-8AED780B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E5B6-4001-4BC3-AC13-9B49417F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B3B7-951A-448B-B63E-85B5CE0D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2FDE-06DB-4E76-8469-1290D027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AB9B-7ED3-44C5-9B87-1ECAE4BB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8D4-CEE2-48CF-B96B-45F87B79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05B-DD94-4E97-AB5A-036E740C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D20-A10D-4E08-A8D4-37B1FDDC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2AC-D0D5-44DC-BD20-DEF6A72D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895-1763-4BA5-84FF-0411EF58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D86-1349-4F66-A7B4-5EC61B65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E4B-07E1-4D2F-B2B4-BC36700A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3884-7273-4318-AC7C-6BFE79C49E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64C0-CC9D-4287-BC74-D4F5511FE9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CASHREG.WAV" TargetMode="Externa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APPLAUSE.WAV" TargetMode="Externa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CASHREG.WAV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o Wants to be a Millionair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Quiz G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6095880" y="45720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800600"/>
            <a:ext cx="1295640" cy="129528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have just won £3000.  Well do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endshow"/>
            <a:hlinkClick r:id="rId1"/>
          </p:cNvPr>
          <p:cNvSpPr/>
          <p:nvPr/>
        </p:nvSpPr>
        <p:spPr>
          <a:xfrm>
            <a:off x="3657600" y="2057400"/>
            <a:ext cx="1295280" cy="1219320"/>
          </a:xfrm>
          <a:custGeom>
            <a:avLst/>
            <a:gdLst>
              <a:gd name="textAreaLeft" fmla="*/ 78840 w 1295280"/>
              <a:gd name="textAreaRight" fmla="*/ 1216440 w 12952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2945" h="21600">
                <a:moveTo>
                  <a:pt x="0" y="0"/>
                </a:moveTo>
                <a:lnTo>
                  <a:pt x="22945" y="0"/>
                </a:lnTo>
                <a:lnTo>
                  <a:pt x="22945" y="21600"/>
                </a:lnTo>
                <a:lnTo>
                  <a:pt x="0" y="21600"/>
                </a:lnTo>
                <a:close/>
              </a:path>
              <a:path fill="lightenLess" w="22945" h="21600">
                <a:moveTo>
                  <a:pt x="0" y="0"/>
                </a:moveTo>
                <a:lnTo>
                  <a:pt x="22945" y="0"/>
                </a:lnTo>
                <a:lnTo>
                  <a:pt x="21545" y="1400"/>
                </a:lnTo>
                <a:lnTo>
                  <a:pt x="1400" y="1400"/>
                </a:lnTo>
                <a:close/>
              </a:path>
              <a:path fill="darken" w="22945" h="21600">
                <a:moveTo>
                  <a:pt x="22945" y="0"/>
                </a:moveTo>
                <a:lnTo>
                  <a:pt x="22945" y="21600"/>
                </a:lnTo>
                <a:lnTo>
                  <a:pt x="21545" y="20200"/>
                </a:lnTo>
                <a:lnTo>
                  <a:pt x="21545" y="1400"/>
                </a:lnTo>
                <a:close/>
              </a:path>
              <a:path fill="darkenLess" w="22945" h="21600">
                <a:moveTo>
                  <a:pt x="22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5" y="20200"/>
                </a:lnTo>
                <a:close/>
              </a:path>
              <a:path fill="lighten" w="22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2133720"/>
            <a:ext cx="93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1219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ow many players are there on a football team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320040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1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. 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0481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5791320" y="3886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29718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886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21280" y="3124080"/>
            <a:ext cx="2925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1523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which country would you find Par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8600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German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 U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Australi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. Fr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3657600" y="22860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3657600" y="30481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7391520" y="2209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7391520" y="3124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04920" y="3581280"/>
            <a:ext cx="16668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1523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which sport would you use a sab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4290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Fenc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Pol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Jud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. Lacros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3581280" y="3352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7315200" y="32767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315200" y="41911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1148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28600" y="3200400"/>
            <a:ext cx="15573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2514600"/>
            <a:ext cx="7162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rry, that is the wrong answer.  The correct answer was C - 11 playe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have lost.  Thank you for pla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endshow"/>
            <a:hlinkClick r:id="rId1"/>
          </p:cNvPr>
          <p:cNvSpPr/>
          <p:nvPr/>
        </p:nvSpPr>
        <p:spPr>
          <a:xfrm>
            <a:off x="3657600" y="518148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3657600" y="5334120"/>
            <a:ext cx="12049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1523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rect!  You have won £100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>
            <a:hlinkClick r:id="rId1"/>
          </p:cNvPr>
          <p:cNvSpPr/>
          <p:nvPr/>
        </p:nvSpPr>
        <p:spPr>
          <a:xfrm>
            <a:off x="3505320" y="28195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895480"/>
            <a:ext cx="8254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r answer was, France.  You had £1000.  You now have £2000.  Well do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>
            <a:hlinkClick r:id="rId1"/>
          </p:cNvPr>
          <p:cNvSpPr/>
          <p:nvPr/>
        </p:nvSpPr>
        <p:spPr>
          <a:xfrm>
            <a:off x="4038480" y="320040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352680"/>
            <a:ext cx="11952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609480"/>
            <a:ext cx="7772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question was, “In which country would you find Paris.  The correct answer was D - France.  You have just lost £1000.  Thank you for pla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  <a:hlinkClick r:id="rId1"/>
          </p:cNvPr>
          <p:cNvSpPr/>
          <p:nvPr/>
        </p:nvSpPr>
        <p:spPr>
          <a:xfrm>
            <a:off x="3505320" y="373392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886200"/>
            <a:ext cx="12049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5335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rry, that is the wrong answer.  The correct answer was A - Fencing.  You have just lost £2000.  Thank you for pla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endshow"/>
            <a:hlinkClick r:id="rId1"/>
          </p:cNvPr>
          <p:cNvSpPr/>
          <p:nvPr/>
        </p:nvSpPr>
        <p:spPr>
          <a:xfrm>
            <a:off x="3429000" y="289548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048120"/>
            <a:ext cx="12049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3:27:23Z</dcterms:created>
  <dc:creator>Caroline Coster</dc:creator>
  <dc:description/>
  <dc:language>en-US</dc:language>
  <cp:lastModifiedBy>Caroline Coster</cp:lastModifiedBy>
  <dcterms:modified xsi:type="dcterms:W3CDTF">2001-02-22T14:06:15Z</dcterms:modified>
  <cp:revision>1</cp:revision>
  <dc:subject/>
  <dc:title>Who Wants to be a Millionaire?</dc:title>
</cp:coreProperties>
</file>