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1D53-ABA9-4C64-A374-92B02E27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E7DB-9309-4778-A76C-FA03F8F6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CA3A-63FA-4E8B-8559-81762BEE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9B91-8AED-44E1-BF97-D75CE80B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9F8F-FDC1-44C5-9C6E-C1277E4F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E474-6BF8-434F-82CE-13153D1E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3DEB-E7B3-43E2-AF88-AA81F296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4BDB-A73E-48EB-983F-35C3E012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4BEC-407C-484E-8C75-A8EF4333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BE8-7353-4542-97FC-1612F5D2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1B02-50BF-4721-91D7-B0E0440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E8BA-A34D-4109-99E2-6E17937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4657-EFD3-42E3-8086-9E8355C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7278-93A5-414B-8049-826E89B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5CE9-4A0A-4AEB-AEA6-23FDA31C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6218-455C-43CC-9E57-9307E92D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54BB-3D80-4EFA-B22C-E7CF9BB1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590C-CE34-4840-8993-E93F271D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BF3A-4D2F-4E2A-9A38-3979E57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B3ED-48B3-4A3D-8A41-C8BCE25E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1B81-5024-4352-A91B-70E622B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5906-D382-4D2D-92BB-BDC4E953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79B9-59CE-4A97-B143-A611C6C3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FBFF-F4E6-4DCB-ACE6-A619977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8DFB-27C0-49A0-83A2-84D2FFE20C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75A-D3B6-4BED-8148-B6D937B619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Chinese Cooke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icken Fried 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Prepa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ely dice half an on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ce a piece of cooked chicken to the same s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ce a rasher of lean bacon the same 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at an egg in a cup with a level teaspoon of s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rost half a cup frozen p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23040" y="2949480"/>
            <a:ext cx="24890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Cooking the r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ll a mug with long grain r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ring a half full saucepan of water to the b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oil for 9 minutes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move from heat and fill with cold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ain into a sie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turn rice to the empty saucepan and co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63600" y="3241800"/>
            <a:ext cx="242568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Making the fried r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ve all the ingredients to 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eat 3 tbsp oil in a wok or large frying 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the onion and bacon and fry for 2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urn down the heat and add the beaten eg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k until it s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ir to break it up into small pieces and then turn up the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the chicken and p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BON APPETIT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3T09:04:11Z</dcterms:modified>
  <cp:revision>7</cp:revision>
  <dc:subject/>
  <dc:title>Chinese Cookery</dc:title>
</cp:coreProperties>
</file>