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61C-0956-4CD6-A1B9-1B2C36F0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367-D7B5-46FF-B4D7-8216C488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743-53FF-4635-B340-8ECFB8E2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A9E-2DCA-468A-B242-F3C726D6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3F0C4-D78E-46AB-8366-E64DB47B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E7E8E-9CDE-49BA-AFDC-AA38011E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01410-C3C7-4A44-A089-782BFB58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8DDB4-DBBA-43CD-A2CD-822C2E09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AA79B-B05D-4ABD-BA4D-8DF945B3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E7922-ADF4-4096-9A4A-A49F2A4F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F902C-FCCF-442D-A825-D7DE77F7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B98-4B9D-43F7-8946-D964518F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CEFB0-30EE-4AC3-890C-274EE64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1BC67-4B17-4B80-B084-ED526E39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34224-CBA3-49C5-9ED0-7C5A6266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0C954-D871-4863-96A1-42B3797D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C02F9-3723-4C52-AE75-8019DCD9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C8E-0973-476A-920E-3FF99C16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C0D-C672-4E42-A995-221806C2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544-6D8B-42BE-B15C-3138E5D4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D43-2755-48C8-B8FE-F5354EFD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273-4DEA-407E-8B15-51D44AB5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02C-1BA5-4DB1-9F1A-1CD5569E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C1C-87DE-4472-9A94-520224AF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2DF3-DEE1-49EA-8F0B-BE5D66359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8B76-F616-4604-A01B-8486D0806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Electronic whiteboards and Powerpoint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838080"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565000"/>
            <a:ext cx="64008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Duration 2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mphasis on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Practical  and enjoy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Electronic whiteboard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quipment need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actical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5864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use as a teaching t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r the pupils to present their work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record an ev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336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uitable uses for Powerpoint in the classro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oday’s 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ame of Who Wants to be a Milliona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ow Chinese Cookery presenta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actical exercise creating PP presenta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mo a few good example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genda (continued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ow to personalise the Millionaire fil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imary Maths using the whiteboar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ok at the PP examples from teacher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ool idea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vide CD to 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5T16:27:38Z</dcterms:created>
  <dc:creator>Gary Martin</dc:creator>
  <dc:description/>
  <dc:language>en-US</dc:language>
  <cp:lastModifiedBy>Gary Martin</cp:lastModifiedBy>
  <dcterms:modified xsi:type="dcterms:W3CDTF">2003-01-05T16:44:38Z</dcterms:modified>
  <cp:revision>2</cp:revision>
  <dc:subject/>
  <dc:title>Electronic whiteboards and Powerpoint  </dc:title>
</cp:coreProperties>
</file>