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F201-57A3-43CC-8978-4AEFD4284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8FE3-78F0-4C30-8A0C-5E12954B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0CAA-F64A-4136-8E89-45C333B9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CEFF-84F9-4002-9F93-B62016A0C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6026-C62D-4521-B852-BB1105A3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E718-1E0A-4BD7-8AC0-C29D5E3E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C303-511C-44BC-BAE4-778107F7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F950-2D87-4144-8D8C-63CB6A93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672E-2860-46DB-BF6F-EF302E5D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9BB2-9F83-4EBE-82E2-1530BF06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2113-0211-45E6-922E-4804631E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D75C-7292-481E-A095-5DBCBA76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2D54-7DF7-47DD-B888-ACE6CEDAE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inese Cook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icken Fried 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ely dice half an on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ce a piece of cooked chicken to the sam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ce a rasher of lean bacon the sam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at an egg in a cup with a level teaspoon of s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rost half a cup frozen p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423040" y="2948040"/>
            <a:ext cx="2489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oking the r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ll a mug with long grain 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ing a half full saucepan of water to the bo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boiling, add the rice and stir until it comes back to the bo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il for 9 minute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from heat and fill with col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in into a si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rice to the empty saucepan and c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63600" y="3240000"/>
            <a:ext cx="242568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king the fried r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e all the ingredients to 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t 3 tbsp oil in a wok or large frying 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 the onion and bacon and fry for 2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urn down the heat and add the beaten eg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ok until it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ir to break it up into small pieces and then turn up the 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 the chicken and p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3280" y="4076640"/>
            <a:ext cx="4032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ir and add 1 tsp of soy    sa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x in the boiled 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ason with salt &amp; pepper and stir and heat throug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518080" y="1600200"/>
            <a:ext cx="229860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2T17:06:57Z</dcterms:created>
  <dc:creator>Gary Martin</dc:creator>
  <dc:description/>
  <dc:language>en-US</dc:language>
  <cp:lastModifiedBy>Gary Martin</cp:lastModifiedBy>
  <dcterms:modified xsi:type="dcterms:W3CDTF">2003-01-02T18:01:42Z</dcterms:modified>
  <cp:revision>3</cp:revision>
  <dc:subject/>
  <dc:title>Chinese Cookery</dc:title>
</cp:coreProperties>
</file>