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432-06BF-47E8-8D60-929B7115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5D4-FBA7-4303-9A82-AD4BD8F5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460-9D87-41A5-A202-D060D561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B56-C5ED-487B-BA5C-52FC0C7C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E6C-CCE0-4AC0-8247-C47E449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81B-78F0-4A6A-AC19-852A80BE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9C7-0CD3-447C-A2FC-FB5EF1F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A10-532A-4416-A96F-629E9C7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418-7B62-4BD1-915E-CB20026C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FFB-B0D3-4016-AC35-74F91D4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1A2-260A-4594-80F2-DEFCDE7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856-EE65-4997-9683-BA5DA8A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A35F-166A-4BCE-9812-8184B0CE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 Coo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Frie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ely dice half an o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piece of cooked chicken to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rasher of lean baco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t an egg in a cup with a level teaspoon of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rost half a cup frozen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23040" y="2948040"/>
            <a:ext cx="24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ng the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l a mug with long gra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a half full saucepan of water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il for 9 minut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from heat and fill with col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in into a s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rice to the empty saucepan an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3600" y="3240000"/>
            <a:ext cx="2425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the fried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ll the ingredients to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3 tbsp oil in a wok or large frying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onion and bacon and fry for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down the heat and add the beaten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 until i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to break it up into small pieces and then turn up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chicken and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2T17:42:46Z</dcterms:modified>
  <cp:revision>2</cp:revision>
  <dc:subject/>
  <dc:title>Chinese Cookery</dc:title>
</cp:coreProperties>
</file>